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5.gif" ContentType="image/gif"/>
  <Override PartName="/ppt/media/image24.gif" ContentType="image/gif"/>
  <Override PartName="/ppt/media/image22.gif" ContentType="image/gif"/>
  <Override PartName="/ppt/media/image26.png" ContentType="image/png"/>
  <Override PartName="/ppt/media/image23.gif" ContentType="image/gif"/>
  <Override PartName="/ppt/media/image17.gif" ContentType="image/gif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8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868-B14B-4CBA-B5E4-CA6B435B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711-325E-43CB-A6E4-165E15AE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801-F4AE-49DC-B0F7-DF266FDE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446-8563-46C0-9A4E-0910B4B6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5BF-0681-49DD-927D-DAFE6D46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0B3-1513-4713-9ED9-90C8C550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C07-4540-4EEC-A49F-0D6C924B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0C9-C764-4C61-B58C-06F22E18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7A4-F7A0-4F84-AFB3-2804B3A8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601-84A7-4E06-A77F-F16BB65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7FF-61FB-44A6-BCC9-BEF8A638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4A9-3F31-40D3-82DA-B82590D5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DCF9-E76A-4735-ABED-6EADC678E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11.gif"/><Relationship Id="rId16" Type="http://schemas.openxmlformats.org/officeDocument/2006/relationships/image" Target="../media/image16.gif"/><Relationship Id="rId17" Type="http://schemas.openxmlformats.org/officeDocument/2006/relationships/image" Target="../media/image6.gif"/><Relationship Id="rId18" Type="http://schemas.openxmlformats.org/officeDocument/2006/relationships/image" Target="../media/image8.gif"/><Relationship Id="rId19" Type="http://schemas.openxmlformats.org/officeDocument/2006/relationships/image" Target="../media/image11.gif"/><Relationship Id="rId20" Type="http://schemas.openxmlformats.org/officeDocument/2006/relationships/image" Target="../media/image8.gif"/><Relationship Id="rId21" Type="http://schemas.openxmlformats.org/officeDocument/2006/relationships/image" Target="../media/image17.gif"/><Relationship Id="rId22" Type="http://schemas.openxmlformats.org/officeDocument/2006/relationships/image" Target="../media/image8.gif"/><Relationship Id="rId23" Type="http://schemas.openxmlformats.org/officeDocument/2006/relationships/image" Target="../media/image15.gif"/><Relationship Id="rId24" Type="http://schemas.openxmlformats.org/officeDocument/2006/relationships/image" Target="../media/image12.gif"/><Relationship Id="rId25" Type="http://schemas.openxmlformats.org/officeDocument/2006/relationships/image" Target="../media/image6.gif"/><Relationship Id="rId26" Type="http://schemas.openxmlformats.org/officeDocument/2006/relationships/image" Target="../media/image9.gif"/><Relationship Id="rId27" Type="http://schemas.openxmlformats.org/officeDocument/2006/relationships/image" Target="../media/image8.gif"/><Relationship Id="rId28" Type="http://schemas.openxmlformats.org/officeDocument/2006/relationships/image" Target="../media/image15.gif"/><Relationship Id="rId2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86120" cy="2305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57880" y="0"/>
            <a:ext cx="2886120" cy="230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4552920"/>
            <a:ext cx="2886120" cy="23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257880" y="4552920"/>
            <a:ext cx="2886120" cy="2305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492360" y="1413000"/>
            <a:ext cx="73368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236000" y="3933720"/>
            <a:ext cx="704520" cy="685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156360" y="141300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508720" y="1413000"/>
            <a:ext cx="704880" cy="67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6516720" y="3933720"/>
            <a:ext cx="7524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268360" y="141300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53964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2916360" y="1125360"/>
            <a:ext cx="72360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2340000" y="1125360"/>
            <a:ext cx="571320" cy="285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6516720" y="1052640"/>
            <a:ext cx="352440" cy="325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4211640" y="141300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4859280" y="1413000"/>
            <a:ext cx="72396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4067280" y="2421000"/>
            <a:ext cx="73332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111600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1692360" y="39337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234000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2916360" y="3860640"/>
            <a:ext cx="55224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349236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3708360" y="3500280"/>
            <a:ext cx="352440" cy="32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464328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5219640" y="3933720"/>
            <a:ext cx="733320" cy="685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5867280" y="3933720"/>
            <a:ext cx="704880" cy="67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7"/>
          <a:stretch/>
        </p:blipFill>
        <p:spPr>
          <a:xfrm>
            <a:off x="781200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8"/>
          <a:stretch/>
        </p:blipFill>
        <p:spPr>
          <a:xfrm>
            <a:off x="5508720" y="3573360"/>
            <a:ext cx="352440" cy="325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6840" cy="306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306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77080" y="3716280"/>
            <a:ext cx="2266920" cy="3141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2268360" cy="3213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2520" y="1773720"/>
            <a:ext cx="718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Hvězdy na nebi vánočním</a:t>
            </a: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         ať září svitem svátečním.</a:t>
            </a: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   Lásku, štěstí, zdraví nesou Vám,</a:t>
            </a: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      ten den nemá býti nikdo sám.</a:t>
            </a: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              Šťastné a veselé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753240" y="0"/>
            <a:ext cx="2390760" cy="2743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438280" cy="2743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05720" y="4114800"/>
            <a:ext cx="243828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484360" y="404640"/>
            <a:ext cx="4172040" cy="5907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3:21:22Z</dcterms:created>
  <dc:creator>Eva</dc:creator>
  <dc:description/>
  <dc:language>en-US</dc:language>
  <cp:lastModifiedBy>Ala</cp:lastModifiedBy>
  <dcterms:modified xsi:type="dcterms:W3CDTF">2006-12-08T18:13:06Z</dcterms:modified>
  <cp:revision>3</cp:revision>
  <dc:subject/>
  <dc:title>Snímek 1</dc:title>
</cp:coreProperties>
</file>