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6.png" ContentType="image/png"/>
  <Override PartName="/ppt/media/image23.gif" ContentType="image/gif"/>
  <Override PartName="/ppt/media/image17.gif" ContentType="image/gif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8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514-C2F5-499A-B653-C049CDE7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E3E-04C3-4E93-9E4D-D71F2710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DDF-AA91-488C-B9DD-542C13FD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0C1-6BA1-4C05-BF5B-BDBB4CF8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08A-1F24-4104-A216-4935F54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785-467F-4B44-9F45-689BBD3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508-F605-432F-A26A-9ED81E3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6D2-3971-4D9E-BE50-E5218D9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528-B6BA-4A40-A8F7-71171B5E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ED2-9945-44DB-A34F-2BDA25B9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1A8-86F2-4254-8277-5478956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2CA-3373-46D6-B1AC-049B1DB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3D9-FE81-4AA4-942F-9425D0F8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1.gif"/><Relationship Id="rId16" Type="http://schemas.openxmlformats.org/officeDocument/2006/relationships/image" Target="../media/image16.gif"/><Relationship Id="rId17" Type="http://schemas.openxmlformats.org/officeDocument/2006/relationships/image" Target="../media/image6.gif"/><Relationship Id="rId18" Type="http://schemas.openxmlformats.org/officeDocument/2006/relationships/image" Target="../media/image8.gif"/><Relationship Id="rId19" Type="http://schemas.openxmlformats.org/officeDocument/2006/relationships/image" Target="../media/image11.gif"/><Relationship Id="rId20" Type="http://schemas.openxmlformats.org/officeDocument/2006/relationships/image" Target="../media/image8.gif"/><Relationship Id="rId21" Type="http://schemas.openxmlformats.org/officeDocument/2006/relationships/image" Target="../media/image17.gif"/><Relationship Id="rId22" Type="http://schemas.openxmlformats.org/officeDocument/2006/relationships/image" Target="../media/image8.gif"/><Relationship Id="rId23" Type="http://schemas.openxmlformats.org/officeDocument/2006/relationships/image" Target="../media/image15.gif"/><Relationship Id="rId24" Type="http://schemas.openxmlformats.org/officeDocument/2006/relationships/image" Target="../media/image12.gif"/><Relationship Id="rId25" Type="http://schemas.openxmlformats.org/officeDocument/2006/relationships/image" Target="../media/image6.gif"/><Relationship Id="rId26" Type="http://schemas.openxmlformats.org/officeDocument/2006/relationships/image" Target="../media/image9.gif"/><Relationship Id="rId27" Type="http://schemas.openxmlformats.org/officeDocument/2006/relationships/image" Target="../media/image8.gif"/><Relationship Id="rId28" Type="http://schemas.openxmlformats.org/officeDocument/2006/relationships/image" Target="../media/image15.gif"/><Relationship Id="rId2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57880" y="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55292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57880" y="4552920"/>
            <a:ext cx="2886120" cy="230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492360" y="1413000"/>
            <a:ext cx="73368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6000" y="3933720"/>
            <a:ext cx="70452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156360" y="141300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508720" y="1413000"/>
            <a:ext cx="704880" cy="67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516720" y="3933720"/>
            <a:ext cx="7524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268360" y="1413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3964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2916360" y="1125360"/>
            <a:ext cx="72360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2340000" y="1125360"/>
            <a:ext cx="571320" cy="28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6516720" y="1052640"/>
            <a:ext cx="352440" cy="32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4211640" y="1413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4859280" y="1413000"/>
            <a:ext cx="72396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4067280" y="2421000"/>
            <a:ext cx="73332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11600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1692360" y="39337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234000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2916360" y="3860640"/>
            <a:ext cx="55224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49236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3708360" y="3500280"/>
            <a:ext cx="352440" cy="32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464328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5219640" y="3933720"/>
            <a:ext cx="73332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5867280" y="3933720"/>
            <a:ext cx="70488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7812000" y="393372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5508720" y="3573360"/>
            <a:ext cx="352440" cy="325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6840" cy="306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306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77080" y="3716280"/>
            <a:ext cx="2266920" cy="314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2268360" cy="3213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2520" y="1773720"/>
            <a:ext cx="718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Hvězdy na nebi vánočním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      ať září svitem svátečním.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Lásku, štěstí, zdraví nesou Vám,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   ten den nemá býti nikdo sám.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              Šťastné a veselé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753240" y="0"/>
            <a:ext cx="2390760" cy="274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05720" y="411480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484360" y="404640"/>
            <a:ext cx="4172040" cy="5907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21:22Z</dcterms:created>
  <dc:creator>Eva</dc:creator>
  <dc:description/>
  <dc:language>en-US</dc:language>
  <cp:lastModifiedBy>Ala</cp:lastModifiedBy>
  <dcterms:modified xsi:type="dcterms:W3CDTF">2006-12-08T18:13:06Z</dcterms:modified>
  <cp:revision>3</cp:revision>
  <dc:subject/>
  <dc:title>Snímek 1</dc:title>
</cp:coreProperties>
</file>