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F63-D46D-4BDB-8961-0896B89F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845-B322-42BC-BCB9-C381F1E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9AF-E8C7-4E15-8757-ABCE28C3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1CE-69F7-476D-85AD-B7CD7C85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7C1-2AB1-4B64-84D0-082F282E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186-1410-49CB-807D-34E6197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0AF-1C59-43B3-9773-8E9320D3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AE9-670F-4075-AB98-EEBADE9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FD5-80A7-43FB-92FB-085C319A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DD6-FA57-462D-B807-FF44CA6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1D7-B122-4C68-8A49-432BF82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23D-C1EF-4758-9F1F-7D04786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61AE-E66A-44A4-ACD3-C6CFA6FA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076640" cy="432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5445000"/>
            <a:ext cx="5486400" cy="752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14004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08360" y="33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6000" y="2781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236000" y="40464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0920" y="501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2781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236000" y="508464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851280" y="501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724360" y="5734080"/>
            <a:ext cx="140040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5734080"/>
            <a:ext cx="1400400" cy="112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6200" y="1699200"/>
            <a:ext cx="658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něhové vločky k zemi se snáší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ráz si s okny pohrává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ybí už jen pár st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 kalendáři,vánoční čas nastává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95640" y="530064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530064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596360" y="522936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050920" y="260280"/>
            <a:ext cx="1594080" cy="1322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2852640"/>
            <a:ext cx="1593720" cy="132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96000" y="522936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050920" y="5300640"/>
            <a:ext cx="159408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5796000" y="26028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3995640" y="260280"/>
            <a:ext cx="1152720" cy="131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8200" y="1843560"/>
            <a:ext cx="611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omek se těší na nový kabát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o něhož se zahalí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 bude pod ní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smíme hádat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ž se dárky rozbalí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8720" y="4581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192560" cy="541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34:04Z</dcterms:created>
  <dc:creator>Eva</dc:creator>
  <dc:description/>
  <dc:language>en-US</dc:language>
  <cp:lastModifiedBy>Eva</cp:lastModifiedBy>
  <dcterms:modified xsi:type="dcterms:W3CDTF">2006-11-30T20:02:49Z</dcterms:modified>
  <cp:revision>3</cp:revision>
  <dc:subject/>
  <dc:title>Snímek 1</dc:title>
</cp:coreProperties>
</file>