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DE3-A712-4D68-BFD9-AD462066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03D-935A-4298-AA0B-5CD7859A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E73-B69F-43DB-8281-6161B53E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C8C-2E6D-46AC-A325-725C86D7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8A2-0526-4A39-8907-9300854B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4552-6A85-49EB-BDEE-448BFCD1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FB4-F1F4-46CA-86EA-D3C34EE0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BBB-F5AF-45F9-B6AD-4FFE17D9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713-8EF0-46DC-9716-01447CBB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6CD-0B6B-4681-A308-F85748FB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6D6-92B2-4B57-8D97-2FDE2C2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064-3714-40D7-BA43-28016E24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5409-367D-4491-8909-FFC00B6D6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40000" y="692280"/>
            <a:ext cx="4076640" cy="432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63640" y="5445000"/>
            <a:ext cx="5486400" cy="752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14004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651640" y="260280"/>
            <a:ext cx="140004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08360" y="33336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236000" y="278136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236000" y="40464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50920" y="501336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50920" y="278136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7236000" y="508464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851280" y="501336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5724360" y="5734080"/>
            <a:ext cx="140040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2124000" y="5734080"/>
            <a:ext cx="1400400" cy="112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6200" y="1699200"/>
            <a:ext cx="658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něhové vločky k zemi se snáší,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ráz si s okny pohrává,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ybí už jen pár st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 kalendáři,vánoční čas nastává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1593720" cy="1322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52360" cy="131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95640" y="5300640"/>
            <a:ext cx="1152720" cy="131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5300640"/>
            <a:ext cx="1152360" cy="131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596360" y="5229360"/>
            <a:ext cx="1152360" cy="131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050920" y="260280"/>
            <a:ext cx="1594080" cy="1322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550280" y="2852640"/>
            <a:ext cx="1593720" cy="132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5796000" y="5229360"/>
            <a:ext cx="1593720" cy="1322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2050920" y="5300640"/>
            <a:ext cx="1594080" cy="1322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5796000" y="260280"/>
            <a:ext cx="1593720" cy="1322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152360" cy="1314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3995640" y="260280"/>
            <a:ext cx="1152720" cy="1314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8200" y="1843560"/>
            <a:ext cx="611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omek se těší na nový kabát,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o něhož se zahalí.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 bude pod ní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smíme hádat,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ež se dárky rozbalí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68720" y="4581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ř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4192560" cy="541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34:04Z</dcterms:created>
  <dc:creator>Eva</dc:creator>
  <dc:description/>
  <dc:language>en-US</dc:language>
  <cp:lastModifiedBy>Eva</cp:lastModifiedBy>
  <dcterms:modified xsi:type="dcterms:W3CDTF">2006-11-30T20:02:49Z</dcterms:modified>
  <cp:revision>3</cp:revision>
  <dc:subject/>
  <dc:title>Snímek 1</dc:title>
</cp:coreProperties>
</file>