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965-DBC2-4E55-B5E7-725BD671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C3E-28B0-44AC-9F13-DFA52069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D2DB-F87B-414D-AB90-62BE4A1D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515-2A6C-48C3-8607-751330C8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142-7352-4D55-AFD7-D0DEFFA1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7B1-D937-480A-9EB8-CA83C45D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ECD-FA2C-4595-8B47-7EBC5AAF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CB6-C1A8-4528-85F1-E7441FD3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762-C709-4D7B-8CED-0EE523FF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836-1233-4EDA-868C-EE2DA66D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369-4F45-40ED-BCDB-73749939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4C4-A8CB-4593-8630-E548B049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8257-A0F5-459B-9F4C-D250AA4BD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08000" y="5805360"/>
            <a:ext cx="5267520" cy="7527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1128960" cy="1405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923760" cy="1245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924120" cy="1246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79280" y="5229360"/>
            <a:ext cx="1128960" cy="1404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956720" y="189000"/>
            <a:ext cx="923760" cy="1245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8028000" y="3573360"/>
            <a:ext cx="923760" cy="1246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8015400" y="5229360"/>
            <a:ext cx="1128600" cy="1404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8015400" y="1916280"/>
            <a:ext cx="1128600" cy="140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5580000" y="5229360"/>
            <a:ext cx="1128600" cy="140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2843280" y="5229360"/>
            <a:ext cx="1128600" cy="140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995640" y="0"/>
            <a:ext cx="1128960" cy="140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659640" y="0"/>
            <a:ext cx="1128600" cy="1405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1403280" y="0"/>
            <a:ext cx="1128960" cy="1405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4140360" y="5373720"/>
            <a:ext cx="923760" cy="1246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6804000" y="5373720"/>
            <a:ext cx="924120" cy="1246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1547640" y="5373720"/>
            <a:ext cx="924120" cy="1246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5508720" y="189000"/>
            <a:ext cx="923760" cy="1245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2700360" y="189000"/>
            <a:ext cx="923760" cy="1245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22520" y="2059920"/>
            <a:ext cx="59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  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Jen zanotuješ koled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   a je tu vůně po med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   a čerstvý závan jehličí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   i z lesa tikot střízličí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551664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92720" y="5516640"/>
            <a:ext cx="71928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203640" y="5516640"/>
            <a:ext cx="71892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332000" y="5516640"/>
            <a:ext cx="71892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258920" y="189000"/>
            <a:ext cx="7192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236000" y="5516640"/>
            <a:ext cx="718920" cy="1096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7164360" y="189000"/>
            <a:ext cx="71928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5148360" y="189000"/>
            <a:ext cx="718920" cy="1096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3203640" y="189000"/>
            <a:ext cx="718920" cy="1096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8028000" y="551664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250920" y="551664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>
            <a:off x="250920" y="18900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3"/>
          <a:stretch/>
        </p:blipFill>
        <p:spPr>
          <a:xfrm>
            <a:off x="8028000" y="18900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4"/>
          <a:stretch/>
        </p:blipFill>
        <p:spPr>
          <a:xfrm>
            <a:off x="6084720" y="18900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5"/>
          <a:stretch/>
        </p:blipFill>
        <p:spPr>
          <a:xfrm>
            <a:off x="4067280" y="18900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6"/>
          <a:stretch/>
        </p:blipFill>
        <p:spPr>
          <a:xfrm>
            <a:off x="2124000" y="18900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7"/>
          <a:stretch/>
        </p:blipFill>
        <p:spPr>
          <a:xfrm>
            <a:off x="6156360" y="551664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8"/>
          <a:stretch/>
        </p:blipFill>
        <p:spPr>
          <a:xfrm>
            <a:off x="4140360" y="5516640"/>
            <a:ext cx="952200" cy="1133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9"/>
          <a:stretch/>
        </p:blipFill>
        <p:spPr>
          <a:xfrm>
            <a:off x="8028000" y="2708280"/>
            <a:ext cx="952560" cy="113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0"/>
          <a:stretch/>
        </p:blipFill>
        <p:spPr>
          <a:xfrm>
            <a:off x="179280" y="278136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1"/>
          <a:stretch/>
        </p:blipFill>
        <p:spPr>
          <a:xfrm>
            <a:off x="8172360" y="4149720"/>
            <a:ext cx="719280" cy="1096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2"/>
          <a:stretch/>
        </p:blipFill>
        <p:spPr>
          <a:xfrm>
            <a:off x="324000" y="1413000"/>
            <a:ext cx="718920" cy="1096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3"/>
          <a:stretch/>
        </p:blipFill>
        <p:spPr>
          <a:xfrm>
            <a:off x="8172360" y="1484280"/>
            <a:ext cx="719280" cy="1096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4"/>
          <a:stretch/>
        </p:blipFill>
        <p:spPr>
          <a:xfrm>
            <a:off x="250920" y="4076640"/>
            <a:ext cx="718920" cy="1096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7080" y="1558080"/>
            <a:ext cx="663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štědrovečerní vzácná chvíle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   v končině krásně černobílé,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   kde pod chodidly vrže mráz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   a my jsme dětmi náhle zas.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   Pěkné Váno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34000" y="454968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ře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3:15:01Z</dcterms:created>
  <dc:creator>Eva</dc:creator>
  <dc:description/>
  <dc:language>en-US</dc:language>
  <cp:lastModifiedBy>Eva</cp:lastModifiedBy>
  <dcterms:modified xsi:type="dcterms:W3CDTF">2006-11-30T19:58:13Z</dcterms:modified>
  <cp:revision>4</cp:revision>
  <dc:subject/>
  <dc:title>Snímek 1</dc:title>
</cp:coreProperties>
</file>