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EE4-AF3D-4144-A28D-A1523133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2BD-D27E-4839-84F7-E3604E0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7A2-74BA-4006-83E0-95823C11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CDF-64DB-411D-ACB1-26E99449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888-ED02-4368-ABF2-FC33AC9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946-F96C-4539-BF37-4346DCD7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CB8-72E7-429F-BD06-19864D1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AF6-3E9C-49F3-8BA1-3FB25AC8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D49-7F99-4F69-9ACE-BE7881F4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39F-949F-4785-BC2B-979A936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8D2-4E78-417A-9236-825AFE6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90B-540C-48E0-AEA4-5BF429C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1ACE-33E3-4689-A6B8-4FC6DDB0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5805360"/>
            <a:ext cx="5267520" cy="752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1128960" cy="140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9567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28000" y="3573360"/>
            <a:ext cx="923760" cy="124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1540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015400" y="191628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58000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84328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995640" y="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659640" y="0"/>
            <a:ext cx="1128600" cy="14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403280" y="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4140360" y="5373720"/>
            <a:ext cx="923760" cy="124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6804000" y="537372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1547640" y="537372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5087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2700360" y="189000"/>
            <a:ext cx="923760" cy="124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22520" y="2059920"/>
            <a:ext cx="59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n zanotuješ koled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a je tu vůně po med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a čerstvý závan jehličí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i z lesa tikot střízličí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33200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8920" y="18900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23600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164360" y="18900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148360" y="189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203640" y="189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802800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5092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25092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802800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608472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406728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212400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615636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4140360" y="551664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8028000" y="2708280"/>
            <a:ext cx="952560" cy="113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179280" y="278136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8172360" y="414972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24000" y="1413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8172360" y="148428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250920" y="4076640"/>
            <a:ext cx="71892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7080" y="1558080"/>
            <a:ext cx="663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štědrovečerní vzácná chvíle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v končině krásně černobílé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kde pod chodidly vrže mráz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a my jsme dětmi náhle zas.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Pěkné Váno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34000" y="45496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ř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15:01Z</dcterms:created>
  <dc:creator>Eva</dc:creator>
  <dc:description/>
  <dc:language>en-US</dc:language>
  <cp:lastModifiedBy>Eva</cp:lastModifiedBy>
  <dcterms:modified xsi:type="dcterms:W3CDTF">2006-11-30T19:58:13Z</dcterms:modified>
  <cp:revision>4</cp:revision>
  <dc:subject/>
  <dc:title>Snímek 1</dc:title>
</cp:coreProperties>
</file>