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1B1-BF30-4B5B-9C98-92BC6D93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323-E591-4DDD-9396-120E054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627-2951-4361-8DFC-3B4A0AD0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4D0-1299-488C-8246-4194452A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537-684F-4C5C-9162-A57A549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C61-FF99-4FF3-88F8-BEC419C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51C-6B5A-40C2-950B-5758C8A8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BA3-22B0-44AF-BD8D-7212546C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19D-5711-4430-A642-A0B93C4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0BA-5E32-4E11-AE59-A4CBC59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61B-1528-4860-9CCB-A1BF81C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43F-FB76-4908-A433-3E92AFF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6B9-AC79-4014-A08A-6DDAAC65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4160" y="0"/>
            <a:ext cx="9398160" cy="6923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7964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70400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70400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94036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704000" y="3645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704000" y="177336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0" y="3645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0" y="170028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86728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3851280" y="0"/>
            <a:ext cx="1440000" cy="117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4560" y="1986120"/>
            <a:ext cx="597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blíží Vánoce a poletují vlo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peče cukroví pro děti, psy a kočky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všichni sejdou doma, nevytáh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a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014120" cy="152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528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90800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8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85928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34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81200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6372360" y="260280"/>
            <a:ext cx="1014120" cy="1521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7812000" y="2637000"/>
            <a:ext cx="1014480" cy="152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74072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6227640" y="5084640"/>
            <a:ext cx="1014480" cy="152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21080" y="2300400"/>
            <a:ext cx="621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řišel zase po ro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Štědrý večer, Váno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89768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89768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249228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897680" y="242100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659640" y="513396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536400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99564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262728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1332000" y="513396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1258920" y="0"/>
            <a:ext cx="1246320" cy="1724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2600" y="1889640"/>
            <a:ext cx="699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říjemné prožití svátků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jen všechno dobré do nového ro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3800" y="400536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ře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51:02Z</dcterms:created>
  <dc:creator>Eva</dc:creator>
  <dc:description/>
  <dc:language>en-US</dc:language>
  <cp:lastModifiedBy>Eva</cp:lastModifiedBy>
  <dcterms:modified xsi:type="dcterms:W3CDTF">2006-11-30T20:21:13Z</dcterms:modified>
  <cp:revision>3</cp:revision>
  <dc:subject/>
  <dc:title>Snímek 1</dc:title>
</cp:coreProperties>
</file>