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E9E-7AB6-475B-A283-2D9C8239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52A-8862-4C27-B594-B2431C1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ED5-A8E3-49D2-8330-8E58CD6F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3A8-3722-4320-AEC9-2FC7050C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12A-EB98-442D-B76F-0994FCD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493-E248-4581-B571-20096DE9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C10-3444-49F6-8F6D-6D8174BC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DF1-4A9B-4BA2-961C-656C617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B39-7D91-41EE-9830-E7F46FC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B6D-6CD2-470E-A7BC-972171BF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249-D23D-4E35-9322-7B7E0C9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0B8-F4EC-4C25-B692-18A08F9D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1C9C-1BFE-461C-BDBD-AB6F8F02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4160" y="0"/>
            <a:ext cx="9398160" cy="6923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7964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70400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70400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940360" y="5688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704000" y="3645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704000" y="177336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0" y="364500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0" y="170028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5867280" y="0"/>
            <a:ext cx="144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3851280" y="0"/>
            <a:ext cx="1440000" cy="117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4560" y="1986120"/>
            <a:ext cx="597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dyž se blíží Vánoce a poletují vlo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dyž se peče cukroví pro děti, psy a kočky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dyž se všichni sejdou doma, nevytáh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a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1014120" cy="152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0800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9528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90800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78800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85928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34800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812000" y="26028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6372360" y="260280"/>
            <a:ext cx="1014120" cy="1521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7812000" y="2637000"/>
            <a:ext cx="1014480" cy="152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740720" y="5084640"/>
            <a:ext cx="1014480" cy="1521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6227640" y="5084640"/>
            <a:ext cx="1014480" cy="1521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21080" y="2300400"/>
            <a:ext cx="621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řišel zase po ro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Štědrý večer, Váno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897680" y="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89768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249228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7897680" y="242100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6659640" y="513396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536400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399564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2627280" y="5133960"/>
            <a:ext cx="1246320" cy="1724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1332000" y="5133960"/>
            <a:ext cx="124596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1258920" y="0"/>
            <a:ext cx="1246320" cy="1724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82600" y="1889640"/>
            <a:ext cx="699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říjemné prožití svátků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jen všechno dobré do nového ro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3800" y="400536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ře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51:02Z</dcterms:created>
  <dc:creator>Eva</dc:creator>
  <dc:description/>
  <dc:language>en-US</dc:language>
  <cp:lastModifiedBy>Eva</cp:lastModifiedBy>
  <dcterms:modified xsi:type="dcterms:W3CDTF">2006-11-30T20:21:13Z</dcterms:modified>
  <cp:revision>3</cp:revision>
  <dc:subject/>
  <dc:title>Snímek 1</dc:title>
</cp:coreProperties>
</file>