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9.png" ContentType="image/png"/>
  <Override PartName="/ppt/media/image6.gif" ContentType="image/gif"/>
  <Override PartName="/ppt/media/image11.gif" ContentType="image/gif"/>
  <Override PartName="/ppt/media/image7.png" ContentType="image/png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D00-7078-4D07-BC2A-0FD0A274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F4F-4C90-4EDF-B65B-4D7D8664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359-A06A-47FE-AAF9-28DCE5BF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1D4-C220-4A7E-8CC3-C247ACDE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B89-437A-432C-9338-4CC0AA49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711-92F4-4EA5-AA3C-C9F66C91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5D3-11BE-447D-B676-E6DE0477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A60-3C88-4964-B1BE-C9875C14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FB8-BAAD-40FA-AB47-0F4002A4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84C-F720-48F4-AF16-9D983EC5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4CF-7DED-4FFE-9022-2C3C23DA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E53-F0B6-4FF0-BF2F-9011187C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4C1-4CE2-4748-8258-BD2618C4B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0.gif"/><Relationship Id="rId5" Type="http://schemas.openxmlformats.org/officeDocument/2006/relationships/image" Target="../media/image12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0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3921120" cy="4219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63640" y="5229360"/>
            <a:ext cx="5486400" cy="75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56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048440" y="0"/>
            <a:ext cx="2095560" cy="1724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23804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260280"/>
            <a:ext cx="1238400" cy="128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79640" y="404640"/>
            <a:ext cx="5086440" cy="66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0" y="5445000"/>
            <a:ext cx="2448000" cy="11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372360" y="571500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1619280" y="5715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153280" y="5715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0" y="5715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0" y="3645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8153280" y="34290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0" y="170028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8153280" y="170028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25720" y="1485000"/>
            <a:ext cx="6869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  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Na vánoční stromeček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pověsíme zvoneček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A až svíčky zaplanou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1405080" cy="141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132000" y="5200560"/>
            <a:ext cx="2857680" cy="165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1257480" cy="1276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3789360"/>
            <a:ext cx="1405080" cy="141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5581800"/>
            <a:ext cx="1257480" cy="127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7738920" y="3716280"/>
            <a:ext cx="140508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7738920" y="189000"/>
            <a:ext cx="1405080" cy="141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7886880" y="2060640"/>
            <a:ext cx="1257120" cy="127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7886880" y="5581800"/>
            <a:ext cx="1257120" cy="1276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5867280" y="189000"/>
            <a:ext cx="1257480" cy="1276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1908000" y="260280"/>
            <a:ext cx="1257480" cy="127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3780000" y="189000"/>
            <a:ext cx="1404720" cy="1412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1476360" y="5457960"/>
            <a:ext cx="1440000" cy="140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6300720" y="5457960"/>
            <a:ext cx="1440000" cy="140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50920" y="1491840"/>
            <a:ext cx="5213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srdce spolu zůstanou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odně štěstí, zdraví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lásky nejen o Vánoc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21280" y="46004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ř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27280" y="1052640"/>
            <a:ext cx="3808440" cy="5186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2:30:15Z</dcterms:created>
  <dc:creator>Eva</dc:creator>
  <dc:description/>
  <dc:language>en-US</dc:language>
  <cp:lastModifiedBy>Eva</cp:lastModifiedBy>
  <dcterms:modified xsi:type="dcterms:W3CDTF">2006-11-30T20:18:11Z</dcterms:modified>
  <cp:revision>3</cp:revision>
  <dc:subject/>
  <dc:title>Snímek 1</dc:title>
</cp:coreProperties>
</file>