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9.png" ContentType="image/png"/>
  <Override PartName="/ppt/media/image6.gif" ContentType="image/gif"/>
  <Override PartName="/ppt/media/image11.gif" ContentType="image/gif"/>
  <Override PartName="/ppt/media/image7.png" ContentType="image/png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85B-5A1A-4767-9490-DA698317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A60-2E04-43BF-90D7-EB11955F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A5F-4CBD-41E2-8870-899E621F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F39-C367-4C9B-AE18-5DC5F110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DA1-4447-4C78-B2F0-CE8C3F25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51B-87AA-4E98-A95D-60DAC86D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CFB-4779-42F4-BA11-93ABAC40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021-7241-4291-8149-00FD8B63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822-C49A-4D42-9C0D-05B3B805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6A0-692E-431E-BF90-CDEA5E0D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D9E-6C9E-475E-99B2-92CF4678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EC5-33BF-4680-A167-7B766D43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ADBF-E18D-43EC-AA7C-B828D8509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0.gif"/><Relationship Id="rId5" Type="http://schemas.openxmlformats.org/officeDocument/2006/relationships/image" Target="../media/image12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0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3921120" cy="4219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63640" y="5229360"/>
            <a:ext cx="5486400" cy="752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56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048440" y="0"/>
            <a:ext cx="2095560" cy="1724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23804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260280"/>
            <a:ext cx="1238400" cy="128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79640" y="404640"/>
            <a:ext cx="5086440" cy="667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0" y="5445000"/>
            <a:ext cx="2448000" cy="115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372360" y="5715000"/>
            <a:ext cx="99036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1619280" y="571500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8153280" y="571500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0" y="571500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0" y="364500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8153280" y="342900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0" y="170028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8153280" y="170028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25720" y="1485000"/>
            <a:ext cx="6869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  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Na vánoční stromeček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pověsíme zvoneček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A až svíčky zaplanou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1405080" cy="141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32000" y="5200560"/>
            <a:ext cx="2857680" cy="165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1257480" cy="1276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3789360"/>
            <a:ext cx="1405080" cy="1413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5581800"/>
            <a:ext cx="1257480" cy="127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7738920" y="3716280"/>
            <a:ext cx="140508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7738920" y="189000"/>
            <a:ext cx="1405080" cy="1412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7886880" y="2060640"/>
            <a:ext cx="1257120" cy="1276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7886880" y="5581800"/>
            <a:ext cx="1257120" cy="1276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5867280" y="189000"/>
            <a:ext cx="1257480" cy="1276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1908000" y="260280"/>
            <a:ext cx="1257480" cy="127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3780000" y="189000"/>
            <a:ext cx="1404720" cy="1412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1476360" y="5457960"/>
            <a:ext cx="1440000" cy="1400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6300720" y="5457960"/>
            <a:ext cx="1440000" cy="1400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050920" y="1491840"/>
            <a:ext cx="5213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srdce spolu zůstanou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Hodně štěstí, zdraví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lásky nejen o Vánoc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21280" y="46004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ř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627280" y="1052640"/>
            <a:ext cx="3808440" cy="5186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2:30:15Z</dcterms:created>
  <dc:creator>Eva</dc:creator>
  <dc:description/>
  <dc:language>en-US</dc:language>
  <cp:lastModifiedBy>Eva</cp:lastModifiedBy>
  <dcterms:modified xsi:type="dcterms:W3CDTF">2006-11-30T20:18:11Z</dcterms:modified>
  <cp:revision>3</cp:revision>
  <dc:subject/>
  <dc:title>Snímek 1</dc:title>
</cp:coreProperties>
</file>