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3.gif" ContentType="image/gif"/>
  <Override PartName="/ppt/media/image20.jpeg" ContentType="image/jpeg"/>
  <Override PartName="/ppt/media/image26.gif" ContentType="image/gif"/>
  <Override PartName="/ppt/media/image4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15.gif" ContentType="image/gif"/>
  <Override PartName="/ppt/media/image27.gif" ContentType="image/gif"/>
  <Override PartName="/ppt/media/image28.jpeg" ContentType="image/jpeg"/>
  <Override PartName="/ppt/media/image16.gif" ContentType="image/gif"/>
  <Override PartName="/ppt/media/image17.gif" ContentType="image/gif"/>
  <Override PartName="/ppt/media/image18.gif" ContentType="image/gif"/>
  <Override PartName="/ppt/media/image19.gif" ContentType="image/gif"/>
  <Override PartName="/ppt/media/image2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31A-A1C1-49F5-A275-21E41F37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61B-4779-4CA3-B4A8-D8C4397A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18E-AFB3-4C31-9D78-D93E202B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624-38BB-4F15-B836-6E32B5B8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C21-96BA-4EBA-94B9-4E93CE19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B69-22D2-4BAC-9E86-E2FA6E61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ADE-8B2B-41F1-BC13-A01AB96A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37C-9043-4142-A84C-CA9EC23E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C2F-65E3-4976-928C-5CF77BC2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764-E62F-4E30-9273-C835DF6C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712-A52E-4D04-AED7-991DFDF8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61F-BE57-4E86-9F9E-C9F73239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84FC-0877-47C3-9384-D39806E2A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8.gif"/><Relationship Id="rId11" Type="http://schemas.openxmlformats.org/officeDocument/2006/relationships/image" Target="../media/image6.gif"/><Relationship Id="rId12" Type="http://schemas.openxmlformats.org/officeDocument/2006/relationships/image" Target="../media/image10.gif"/><Relationship Id="rId13" Type="http://schemas.openxmlformats.org/officeDocument/2006/relationships/image" Target="../media/image4.gif"/><Relationship Id="rId14" Type="http://schemas.openxmlformats.org/officeDocument/2006/relationships/image" Target="../media/image11.gif"/><Relationship Id="rId15" Type="http://schemas.openxmlformats.org/officeDocument/2006/relationships/image" Target="../media/image12.gif"/><Relationship Id="rId16" Type="http://schemas.openxmlformats.org/officeDocument/2006/relationships/image" Target="../media/image13.gif"/><Relationship Id="rId17" Type="http://schemas.openxmlformats.org/officeDocument/2006/relationships/image" Target="../media/image14.gif"/><Relationship Id="rId18" Type="http://schemas.openxmlformats.org/officeDocument/2006/relationships/image" Target="../media/image11.gif"/><Relationship Id="rId19" Type="http://schemas.openxmlformats.org/officeDocument/2006/relationships/image" Target="../media/image15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7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9.gif"/><Relationship Id="rId2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17.gif"/><Relationship Id="rId5" Type="http://schemas.openxmlformats.org/officeDocument/2006/relationships/image" Target="../media/image21.gif"/><Relationship Id="rId6" Type="http://schemas.openxmlformats.org/officeDocument/2006/relationships/image" Target="../media/image17.gif"/><Relationship Id="rId7" Type="http://schemas.openxmlformats.org/officeDocument/2006/relationships/image" Target="../media/image21.gif"/><Relationship Id="rId8" Type="http://schemas.openxmlformats.org/officeDocument/2006/relationships/image" Target="../media/image17.gif"/><Relationship Id="rId9" Type="http://schemas.openxmlformats.org/officeDocument/2006/relationships/image" Target="../media/image21.gif"/><Relationship Id="rId10" Type="http://schemas.openxmlformats.org/officeDocument/2006/relationships/image" Target="../media/image17.gif"/><Relationship Id="rId11" Type="http://schemas.openxmlformats.org/officeDocument/2006/relationships/image" Target="../media/image21.gif"/><Relationship Id="rId12" Type="http://schemas.openxmlformats.org/officeDocument/2006/relationships/image" Target="../media/image17.gif"/><Relationship Id="rId13" Type="http://schemas.openxmlformats.org/officeDocument/2006/relationships/image" Target="../media/image21.gif"/><Relationship Id="rId14" Type="http://schemas.openxmlformats.org/officeDocument/2006/relationships/image" Target="../media/image17.gif"/><Relationship Id="rId15" Type="http://schemas.openxmlformats.org/officeDocument/2006/relationships/image" Target="../media/image21.gif"/><Relationship Id="rId16" Type="http://schemas.openxmlformats.org/officeDocument/2006/relationships/image" Target="../media/image17.gif"/><Relationship Id="rId17" Type="http://schemas.openxmlformats.org/officeDocument/2006/relationships/image" Target="../media/image21.gif"/><Relationship Id="rId18" Type="http://schemas.openxmlformats.org/officeDocument/2006/relationships/image" Target="../media/image17.gif"/><Relationship Id="rId19" Type="http://schemas.openxmlformats.org/officeDocument/2006/relationships/image" Target="../media/image21.gif"/><Relationship Id="rId20" Type="http://schemas.openxmlformats.org/officeDocument/2006/relationships/image" Target="../media/image17.gif"/><Relationship Id="rId21" Type="http://schemas.openxmlformats.org/officeDocument/2006/relationships/image" Target="../media/image21.gif"/><Relationship Id="rId22" Type="http://schemas.openxmlformats.org/officeDocument/2006/relationships/image" Target="../media/image17.gif"/><Relationship Id="rId23" Type="http://schemas.openxmlformats.org/officeDocument/2006/relationships/image" Target="../media/image23.gif"/><Relationship Id="rId2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6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image" Target="../media/image25.gif"/><Relationship Id="rId17" Type="http://schemas.openxmlformats.org/officeDocument/2006/relationships/image" Target="../media/image25.gif"/><Relationship Id="rId18" Type="http://schemas.openxmlformats.org/officeDocument/2006/relationships/image" Target="../media/image25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7.gif"/><Relationship Id="rId2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29.gif"/><Relationship Id="rId13" Type="http://schemas.openxmlformats.org/officeDocument/2006/relationships/image" Target="../media/image30.gif"/><Relationship Id="rId14" Type="http://schemas.openxmlformats.org/officeDocument/2006/relationships/image" Target="../media/image29.gif"/><Relationship Id="rId15" Type="http://schemas.openxmlformats.org/officeDocument/2006/relationships/image" Target="../media/image30.gif"/><Relationship Id="rId16" Type="http://schemas.openxmlformats.org/officeDocument/2006/relationships/image" Target="../media/image29.gif"/><Relationship Id="rId17" Type="http://schemas.openxmlformats.org/officeDocument/2006/relationships/image" Target="../media/image30.gif"/><Relationship Id="rId18" Type="http://schemas.openxmlformats.org/officeDocument/2006/relationships/image" Target="../media/image29.gif"/><Relationship Id="rId19" Type="http://schemas.openxmlformats.org/officeDocument/2006/relationships/image" Target="../media/image30.gif"/><Relationship Id="rId20" Type="http://schemas.openxmlformats.org/officeDocument/2006/relationships/image" Target="../media/image29.gif"/><Relationship Id="rId21" Type="http://schemas.openxmlformats.org/officeDocument/2006/relationships/image" Target="../media/image30.gif"/><Relationship Id="rId22" Type="http://schemas.openxmlformats.org/officeDocument/2006/relationships/image" Target="../media/image29.gif"/><Relationship Id="rId23" Type="http://schemas.openxmlformats.org/officeDocument/2006/relationships/image" Target="../media/image30.gif"/><Relationship Id="rId24" Type="http://schemas.openxmlformats.org/officeDocument/2006/relationships/image" Target="../media/image21.gif"/><Relationship Id="rId2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3960720" cy="46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32000" y="4653000"/>
            <a:ext cx="72072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140360" y="472428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443640" y="472428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508720" y="4724280"/>
            <a:ext cx="503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124000" y="4653000"/>
            <a:ext cx="71928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1280" y="4653000"/>
            <a:ext cx="755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492360" y="4653000"/>
            <a:ext cx="64800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859280" y="472428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093080" y="4724280"/>
            <a:ext cx="43164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596360" y="4724280"/>
            <a:ext cx="5760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172360" y="472428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24000" y="4941720"/>
            <a:ext cx="1225440" cy="1148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2916360" y="5300640"/>
            <a:ext cx="54756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1332000" y="5157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6227640" y="5229360"/>
            <a:ext cx="881280" cy="93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572000" y="5013360"/>
            <a:ext cx="1225440" cy="1147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197964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564000" y="5084640"/>
            <a:ext cx="71424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5508720" y="5516640"/>
            <a:ext cx="649080" cy="588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7093080" y="5516640"/>
            <a:ext cx="649080" cy="588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4140360" y="5445000"/>
            <a:ext cx="591840" cy="70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8244000" y="5445000"/>
            <a:ext cx="592200" cy="701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7667640" y="5445000"/>
            <a:ext cx="685800" cy="633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5661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12000" y="4437000"/>
            <a:ext cx="2911320" cy="218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403280" y="587700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411280" y="5661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564000" y="587700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643280" y="5661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50920" y="4581360"/>
            <a:ext cx="860400" cy="75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250920" y="3357720"/>
            <a:ext cx="952560" cy="971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250920" y="242100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250920" y="1197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250920" y="26028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1258920" y="189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2411280" y="26028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5"/>
          <a:stretch/>
        </p:blipFill>
        <p:spPr>
          <a:xfrm>
            <a:off x="3419640" y="189000"/>
            <a:ext cx="952200" cy="971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6"/>
          <a:stretch/>
        </p:blipFill>
        <p:spPr>
          <a:xfrm>
            <a:off x="4572000" y="26028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7"/>
          <a:stretch/>
        </p:blipFill>
        <p:spPr>
          <a:xfrm>
            <a:off x="5651640" y="189000"/>
            <a:ext cx="952200" cy="971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8"/>
          <a:stretch/>
        </p:blipFill>
        <p:spPr>
          <a:xfrm>
            <a:off x="6877080" y="33336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9"/>
          <a:stretch/>
        </p:blipFill>
        <p:spPr>
          <a:xfrm>
            <a:off x="7956720" y="189000"/>
            <a:ext cx="952200" cy="97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0"/>
          <a:stretch/>
        </p:blipFill>
        <p:spPr>
          <a:xfrm>
            <a:off x="8101080" y="141300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1"/>
          <a:stretch/>
        </p:blipFill>
        <p:spPr>
          <a:xfrm>
            <a:off x="8028000" y="2421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2"/>
          <a:stretch/>
        </p:blipFill>
        <p:spPr>
          <a:xfrm>
            <a:off x="8028000" y="3573360"/>
            <a:ext cx="86040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03280" y="1269720"/>
            <a:ext cx="54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á jsem jedna sudička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 rozdává přáníčka…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eč múza nelíbá denně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osím také opožděné…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Zde je jedno zapomnělé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rochu skromné, avšak vřelé…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oní se mi bez ustání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v mé hlavičce samá přání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 teď přát dřív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emám zdání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3"/>
          <a:stretch/>
        </p:blipFill>
        <p:spPr>
          <a:xfrm>
            <a:off x="5219640" y="1197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93080" y="4437000"/>
            <a:ext cx="185400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1198800" cy="11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484360" y="5516640"/>
            <a:ext cx="792360" cy="110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79280" y="1484280"/>
            <a:ext cx="1198800" cy="110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724360" y="5445000"/>
            <a:ext cx="1198800" cy="110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419640" y="5445000"/>
            <a:ext cx="1198440" cy="1100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116000" y="5445000"/>
            <a:ext cx="1198440" cy="110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50920" y="2852640"/>
            <a:ext cx="792000" cy="110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411280" y="189000"/>
            <a:ext cx="792360" cy="110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643280" y="189000"/>
            <a:ext cx="792360" cy="110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4788000" y="5516640"/>
            <a:ext cx="792000" cy="110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179280" y="5516640"/>
            <a:ext cx="792360" cy="110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179280" y="189000"/>
            <a:ext cx="792360" cy="110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042920" y="189000"/>
            <a:ext cx="1198800" cy="1100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7740720" y="2997360"/>
            <a:ext cx="1198440" cy="1099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7740720" y="189000"/>
            <a:ext cx="119844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5508720" y="189000"/>
            <a:ext cx="1198440" cy="1100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3276720" y="189000"/>
            <a:ext cx="1198440" cy="1100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8101080" y="1628640"/>
            <a:ext cx="792000" cy="1106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0"/>
          <a:stretch/>
        </p:blipFill>
        <p:spPr>
          <a:xfrm>
            <a:off x="6877080" y="189000"/>
            <a:ext cx="792000" cy="110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29480" y="1340280"/>
            <a:ext cx="5761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Všechna věru krásná jsou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o SMS se nevejdou…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A tak přeji kratičce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atínkovi, mamičce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lavně tomu uzlíčku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alinkému sluníčku…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oře lásky, štěstí dosti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jak v dětství, tak v dospělosti…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1"/>
          <a:stretch/>
        </p:blipFill>
        <p:spPr>
          <a:xfrm>
            <a:off x="5508720" y="2133720"/>
            <a:ext cx="1979640" cy="2185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5589720"/>
            <a:ext cx="1079280" cy="111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32000" y="5589720"/>
            <a:ext cx="1150920" cy="110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236000" y="4672080"/>
            <a:ext cx="1604880" cy="218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411280" y="5589720"/>
            <a:ext cx="1079640" cy="1112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492360" y="5589720"/>
            <a:ext cx="1150920" cy="110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4643280" y="5589720"/>
            <a:ext cx="1079640" cy="1112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250920" y="3429000"/>
            <a:ext cx="1152360" cy="1112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724360" y="5589720"/>
            <a:ext cx="115128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250920" y="4508640"/>
            <a:ext cx="1150920" cy="1108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250920" y="2349360"/>
            <a:ext cx="1152360" cy="110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250920" y="1268280"/>
            <a:ext cx="1152360" cy="1113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250920" y="189000"/>
            <a:ext cx="1152360" cy="1125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1332000" y="189000"/>
            <a:ext cx="1152360" cy="1112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5"/>
          <a:stretch/>
        </p:blipFill>
        <p:spPr>
          <a:xfrm>
            <a:off x="2411280" y="189000"/>
            <a:ext cx="1152720" cy="112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6"/>
          <a:stretch/>
        </p:blipFill>
        <p:spPr>
          <a:xfrm>
            <a:off x="3492360" y="189000"/>
            <a:ext cx="1152720" cy="1112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7"/>
          <a:stretch/>
        </p:blipFill>
        <p:spPr>
          <a:xfrm>
            <a:off x="4572000" y="189000"/>
            <a:ext cx="1152360" cy="1125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8"/>
          <a:stretch/>
        </p:blipFill>
        <p:spPr>
          <a:xfrm>
            <a:off x="5651640" y="189000"/>
            <a:ext cx="1152360" cy="1112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9"/>
          <a:stretch/>
        </p:blipFill>
        <p:spPr>
          <a:xfrm>
            <a:off x="6732720" y="189000"/>
            <a:ext cx="1152360" cy="1125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0"/>
          <a:stretch/>
        </p:blipFill>
        <p:spPr>
          <a:xfrm>
            <a:off x="7812000" y="189000"/>
            <a:ext cx="115272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1"/>
          <a:stretch/>
        </p:blipFill>
        <p:spPr>
          <a:xfrm>
            <a:off x="7812000" y="1268280"/>
            <a:ext cx="1152720" cy="1125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2"/>
          <a:stretch/>
        </p:blipFill>
        <p:spPr>
          <a:xfrm>
            <a:off x="7812000" y="2349360"/>
            <a:ext cx="1152720" cy="1113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3"/>
          <a:stretch/>
        </p:blipFill>
        <p:spPr>
          <a:xfrm>
            <a:off x="7812000" y="3429000"/>
            <a:ext cx="1152720" cy="1125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92360" y="1699200"/>
            <a:ext cx="64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lavně zdraví, to se ví,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ť jej „život“ nebolí…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ámbíčkovo požehnání,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všem dost lásky na rozdání,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ť splní se vám ta nejtajnější přání…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Vše něj z celého srdce pře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4"/>
          <a:stretch/>
        </p:blipFill>
        <p:spPr>
          <a:xfrm>
            <a:off x="6156360" y="1557360"/>
            <a:ext cx="1440000" cy="165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96908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1:06:11Z</dcterms:created>
  <dc:creator>Eva Strakošová</dc:creator>
  <dc:description/>
  <dc:language>en-US</dc:language>
  <cp:lastModifiedBy>Ala</cp:lastModifiedBy>
  <dcterms:modified xsi:type="dcterms:W3CDTF">2006-04-30T09:40:52Z</dcterms:modified>
  <cp:revision>7</cp:revision>
  <dc:subject/>
  <dc:title>narozeni dite</dc:title>
</cp:coreProperties>
</file>