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3.gif" ContentType="image/gif"/>
  <Override PartName="/ppt/media/image20.jpeg" ContentType="image/jpeg"/>
  <Override PartName="/ppt/media/image26.gif" ContentType="image/gif"/>
  <Override PartName="/ppt/media/image4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media/image18.gif" ContentType="image/gif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9D9-9A03-4CEC-9C27-A8B26974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EC1-5718-47CE-B483-338A818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72A-9242-423C-952B-C0186DD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12B-10E8-468E-A372-D634EB56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230-6751-41A5-B004-558EAE8E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F47-D547-4F29-94ED-1E0B275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A2D-E525-42D2-A7C0-B55C369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2B5-9473-42E0-8BFE-18DF4B3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BD9-6F33-44FE-BD44-A5B38A9F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B66-09A4-441B-A2A1-04854A0F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7C8-0047-489F-B01B-EF76D889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481-D7BB-40B9-AB78-E9A2E46B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240-D625-44A4-816B-4DF6DCB0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8.gif"/><Relationship Id="rId11" Type="http://schemas.openxmlformats.org/officeDocument/2006/relationships/image" Target="../media/image6.gif"/><Relationship Id="rId12" Type="http://schemas.openxmlformats.org/officeDocument/2006/relationships/image" Target="../media/image10.gif"/><Relationship Id="rId13" Type="http://schemas.openxmlformats.org/officeDocument/2006/relationships/image" Target="../media/image4.gif"/><Relationship Id="rId14" Type="http://schemas.openxmlformats.org/officeDocument/2006/relationships/image" Target="../media/image11.gif"/><Relationship Id="rId15" Type="http://schemas.openxmlformats.org/officeDocument/2006/relationships/image" Target="../media/image12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1.gif"/><Relationship Id="rId19" Type="http://schemas.openxmlformats.org/officeDocument/2006/relationships/image" Target="../media/image15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7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9.gif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17.gif"/><Relationship Id="rId5" Type="http://schemas.openxmlformats.org/officeDocument/2006/relationships/image" Target="../media/image21.gif"/><Relationship Id="rId6" Type="http://schemas.openxmlformats.org/officeDocument/2006/relationships/image" Target="../media/image17.gif"/><Relationship Id="rId7" Type="http://schemas.openxmlformats.org/officeDocument/2006/relationships/image" Target="../media/image21.gif"/><Relationship Id="rId8" Type="http://schemas.openxmlformats.org/officeDocument/2006/relationships/image" Target="../media/image17.gif"/><Relationship Id="rId9" Type="http://schemas.openxmlformats.org/officeDocument/2006/relationships/image" Target="../media/image21.gif"/><Relationship Id="rId10" Type="http://schemas.openxmlformats.org/officeDocument/2006/relationships/image" Target="../media/image17.gif"/><Relationship Id="rId11" Type="http://schemas.openxmlformats.org/officeDocument/2006/relationships/image" Target="../media/image21.gif"/><Relationship Id="rId12" Type="http://schemas.openxmlformats.org/officeDocument/2006/relationships/image" Target="../media/image17.gif"/><Relationship Id="rId13" Type="http://schemas.openxmlformats.org/officeDocument/2006/relationships/image" Target="../media/image21.gif"/><Relationship Id="rId14" Type="http://schemas.openxmlformats.org/officeDocument/2006/relationships/image" Target="../media/image17.gif"/><Relationship Id="rId15" Type="http://schemas.openxmlformats.org/officeDocument/2006/relationships/image" Target="../media/image21.gif"/><Relationship Id="rId16" Type="http://schemas.openxmlformats.org/officeDocument/2006/relationships/image" Target="../media/image17.gif"/><Relationship Id="rId17" Type="http://schemas.openxmlformats.org/officeDocument/2006/relationships/image" Target="../media/image21.gif"/><Relationship Id="rId18" Type="http://schemas.openxmlformats.org/officeDocument/2006/relationships/image" Target="../media/image17.gif"/><Relationship Id="rId19" Type="http://schemas.openxmlformats.org/officeDocument/2006/relationships/image" Target="../media/image21.gif"/><Relationship Id="rId20" Type="http://schemas.openxmlformats.org/officeDocument/2006/relationships/image" Target="../media/image17.gif"/><Relationship Id="rId21" Type="http://schemas.openxmlformats.org/officeDocument/2006/relationships/image" Target="../media/image21.gif"/><Relationship Id="rId22" Type="http://schemas.openxmlformats.org/officeDocument/2006/relationships/image" Target="../media/image17.gif"/><Relationship Id="rId23" Type="http://schemas.openxmlformats.org/officeDocument/2006/relationships/image" Target="../media/image23.gif"/><Relationship Id="rId2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7.gif"/><Relationship Id="rId2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29.gif"/><Relationship Id="rId17" Type="http://schemas.openxmlformats.org/officeDocument/2006/relationships/image" Target="../media/image30.gif"/><Relationship Id="rId18" Type="http://schemas.openxmlformats.org/officeDocument/2006/relationships/image" Target="../media/image29.gif"/><Relationship Id="rId19" Type="http://schemas.openxmlformats.org/officeDocument/2006/relationships/image" Target="../media/image30.gif"/><Relationship Id="rId20" Type="http://schemas.openxmlformats.org/officeDocument/2006/relationships/image" Target="../media/image29.gif"/><Relationship Id="rId21" Type="http://schemas.openxmlformats.org/officeDocument/2006/relationships/image" Target="../media/image30.gif"/><Relationship Id="rId22" Type="http://schemas.openxmlformats.org/officeDocument/2006/relationships/image" Target="../media/image29.gif"/><Relationship Id="rId23" Type="http://schemas.openxmlformats.org/officeDocument/2006/relationships/image" Target="../media/image30.gif"/><Relationship Id="rId24" Type="http://schemas.openxmlformats.org/officeDocument/2006/relationships/image" Target="../media/image21.gif"/><Relationship Id="rId2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960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32000" y="4653000"/>
            <a:ext cx="72072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14036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4364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508720" y="4724280"/>
            <a:ext cx="503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124000" y="4653000"/>
            <a:ext cx="71928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4653000"/>
            <a:ext cx="755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492360" y="4653000"/>
            <a:ext cx="6480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85928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093080" y="4724280"/>
            <a:ext cx="43164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596360" y="4724280"/>
            <a:ext cx="576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472428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24000" y="4941720"/>
            <a:ext cx="1225440" cy="114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916360" y="5300640"/>
            <a:ext cx="5475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1332000" y="5157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6227640" y="5229360"/>
            <a:ext cx="881280" cy="93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572000" y="5013360"/>
            <a:ext cx="1225440" cy="1147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97964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564000" y="5084640"/>
            <a:ext cx="7142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5508720" y="5516640"/>
            <a:ext cx="649080" cy="58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7093080" y="5516640"/>
            <a:ext cx="649080" cy="58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4140360" y="5445000"/>
            <a:ext cx="591840" cy="70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8244000" y="5445000"/>
            <a:ext cx="592200" cy="701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667640" y="5445000"/>
            <a:ext cx="685800" cy="633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291132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403280" y="5877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564000" y="5877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643280" y="566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4581360"/>
            <a:ext cx="860400" cy="75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50920" y="3357720"/>
            <a:ext cx="952560" cy="971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50920" y="2421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250920" y="1197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5092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1258920" y="189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241128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341964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4572000" y="26028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565164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6877080" y="33336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tretch/>
        </p:blipFill>
        <p:spPr>
          <a:xfrm>
            <a:off x="7956720" y="189000"/>
            <a:ext cx="952200" cy="971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0"/>
          <a:stretch/>
        </p:blipFill>
        <p:spPr>
          <a:xfrm>
            <a:off x="8101080" y="1413000"/>
            <a:ext cx="860400" cy="752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8028000" y="24210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tretch/>
        </p:blipFill>
        <p:spPr>
          <a:xfrm>
            <a:off x="8028000" y="3573360"/>
            <a:ext cx="86040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1269720"/>
            <a:ext cx="54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á jsem jedna sudička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 rozdává přáníčka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eč múza nelíbá denně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osím také opožděné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Zde je jedno zapomnělé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rochu skromné, avšak vřelé…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oní se mi bez ustání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 mé hlavičce samá přání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 teď přát dřív,</a:t>
            </a:r>
            <a:br>
              <a:rPr sz="2800"/>
            </a:b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nemám zdání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5219640" y="119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93080" y="4437000"/>
            <a:ext cx="18540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84360" y="551664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79280" y="148428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724360" y="544500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419640" y="5445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116000" y="5445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50920" y="2852640"/>
            <a:ext cx="792000" cy="110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411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643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4788000" y="5516640"/>
            <a:ext cx="792000" cy="110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79280" y="551664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179280" y="189000"/>
            <a:ext cx="792360" cy="110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042920" y="189000"/>
            <a:ext cx="1198800" cy="1100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7740720" y="2997360"/>
            <a:ext cx="1198440" cy="109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7740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5508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3276720" y="189000"/>
            <a:ext cx="119844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8101080" y="1628640"/>
            <a:ext cx="792000" cy="110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6877080" y="189000"/>
            <a:ext cx="792000" cy="110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29480" y="1340280"/>
            <a:ext cx="57614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Všechna věru krásná jsou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SMS se nevejdou…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 tak přeji kratičce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atínkovi, mamičce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lavně tomu uzlíčku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inkému sluníčku…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oře lásky, štěstí dosti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jak v dětství, tak v dospělosti…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5508720" y="2133720"/>
            <a:ext cx="1979640" cy="218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1079280" cy="111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32000" y="558972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236000" y="4672080"/>
            <a:ext cx="160488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411280" y="5589720"/>
            <a:ext cx="1079640" cy="1112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492360" y="558972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4643280" y="5589720"/>
            <a:ext cx="1079640" cy="1112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50920" y="342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724360" y="5589720"/>
            <a:ext cx="115128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250920" y="4508640"/>
            <a:ext cx="1150920" cy="110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250920" y="2349360"/>
            <a:ext cx="1152360" cy="110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250920" y="1268280"/>
            <a:ext cx="1152360" cy="1113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25092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1332000" y="18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2411280" y="189000"/>
            <a:ext cx="1152720" cy="112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3492360" y="189000"/>
            <a:ext cx="1152720" cy="1112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457200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>
            <a:off x="5651640" y="189000"/>
            <a:ext cx="1152360" cy="111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>
            <a:off x="6732720" y="189000"/>
            <a:ext cx="1152360" cy="1125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>
            <a:off x="7812000" y="189000"/>
            <a:ext cx="115272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1"/>
          <a:stretch/>
        </p:blipFill>
        <p:spPr>
          <a:xfrm>
            <a:off x="7812000" y="1268280"/>
            <a:ext cx="1152720" cy="112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2"/>
          <a:stretch/>
        </p:blipFill>
        <p:spPr>
          <a:xfrm>
            <a:off x="7812000" y="2349360"/>
            <a:ext cx="1152720" cy="1113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3"/>
          <a:stretch/>
        </p:blipFill>
        <p:spPr>
          <a:xfrm>
            <a:off x="7812000" y="3429000"/>
            <a:ext cx="1152720" cy="1125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92360" y="1699200"/>
            <a:ext cx="64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lavně zdraví, to se v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ť jej „život“ nebolí…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ámbíčkovo požehnán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šem dost lásky na rozdání,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ť splní se vám ta nejtajnější přání…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Vše něj z celého srdce pře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4"/>
          <a:stretch/>
        </p:blipFill>
        <p:spPr>
          <a:xfrm>
            <a:off x="6156360" y="1557360"/>
            <a:ext cx="1440000" cy="165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96908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1:06:11Z</dcterms:created>
  <dc:creator>Eva Strakošová</dc:creator>
  <dc:description/>
  <dc:language>en-US</dc:language>
  <cp:lastModifiedBy>Ala</cp:lastModifiedBy>
  <dcterms:modified xsi:type="dcterms:W3CDTF">2006-04-30T09:40:52Z</dcterms:modified>
  <cp:revision>7</cp:revision>
  <dc:subject/>
  <dc:title>narozeni dite</dc:title>
</cp:coreProperties>
</file>