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25BF-A0CD-4E06-84A7-6B2DC809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045A-D2F8-45C3-8540-A7F9CC4C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B15-23B0-435D-8AFB-1177B14A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8AE-2527-4DFB-9A7D-D05F7605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E6F-4DD0-4875-B1AA-36083507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F5C-DC15-4CC6-A878-9D5122B3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687-99CF-4415-A562-60CED8E5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F16-A883-49AD-8A37-D1A8E092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1AB-0C51-4EC9-A2AA-1D1DBA85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B8C-CE6E-4B77-91CE-92949C73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8D6-ECD4-4CDC-B652-29BBD592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106F-47EE-4257-9DE1-2E29461E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AC4F-24F8-4F85-B0D9-7ADE3646B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1.gif"/><Relationship Id="rId16" Type="http://schemas.openxmlformats.org/officeDocument/2006/relationships/image" Target="../media/image12.gif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79640" y="5589720"/>
            <a:ext cx="4943520" cy="933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18584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952200" cy="1133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908000" y="260280"/>
            <a:ext cx="5372280" cy="90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958160" y="0"/>
            <a:ext cx="1185840" cy="147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956720" y="1916280"/>
            <a:ext cx="952200" cy="113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24000" y="5445000"/>
            <a:ext cx="952200" cy="113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956720" y="5373720"/>
            <a:ext cx="952200" cy="1133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1547640" y="5157720"/>
            <a:ext cx="1186200" cy="147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324000" y="3500280"/>
            <a:ext cx="1185840" cy="1476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7958160" y="3357720"/>
            <a:ext cx="1185840" cy="14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6588000" y="5157720"/>
            <a:ext cx="1185840" cy="147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4140360" y="5157720"/>
            <a:ext cx="1185840" cy="14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2843280" y="551664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5364000" y="5516640"/>
            <a:ext cx="952560" cy="1133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84360" y="1842120"/>
            <a:ext cx="4535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Když vzduchem zakrouží pár vloček sněhu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astavím tvář, ten dotek má něhu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Vyloudí úsměv, otupí zlost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651640" y="5516640"/>
            <a:ext cx="714240" cy="1085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933480" cy="771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050920" y="333360"/>
            <a:ext cx="5042160" cy="1095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692360" y="5661000"/>
            <a:ext cx="933480" cy="771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659640" y="5661000"/>
            <a:ext cx="933480" cy="771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7740720" y="1773360"/>
            <a:ext cx="933480" cy="771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059280" y="5516640"/>
            <a:ext cx="714240" cy="1085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7956720" y="2781360"/>
            <a:ext cx="714240" cy="1085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539640" y="2924280"/>
            <a:ext cx="714600" cy="1085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211640" y="5661000"/>
            <a:ext cx="1171440" cy="828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7740720" y="4149720"/>
            <a:ext cx="1171440" cy="82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>
            <a:off x="324000" y="4221000"/>
            <a:ext cx="1171440" cy="828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7812000" y="5589720"/>
            <a:ext cx="1009800" cy="807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324000" y="5589720"/>
            <a:ext cx="1009440" cy="807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5"/>
          <a:stretch/>
        </p:blipFill>
        <p:spPr>
          <a:xfrm>
            <a:off x="468360" y="189000"/>
            <a:ext cx="1166760" cy="1552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6"/>
          <a:stretch/>
        </p:blipFill>
        <p:spPr>
          <a:xfrm>
            <a:off x="7596360" y="189000"/>
            <a:ext cx="1077840" cy="1434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32000" y="199044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tak přeji všem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lidem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, ať štěstí je dost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Šťastné a veselé Vánoce Vám všem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65800" y="38815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pře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2:09:33Z</dcterms:created>
  <dc:creator>Eva</dc:creator>
  <dc:description/>
  <dc:language>en-US</dc:language>
  <cp:lastModifiedBy>Eva</cp:lastModifiedBy>
  <dcterms:modified xsi:type="dcterms:W3CDTF">2006-11-30T20:15:29Z</dcterms:modified>
  <cp:revision>4</cp:revision>
  <dc:subject/>
  <dc:title>Snímek 1</dc:title>
</cp:coreProperties>
</file>