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6A5-4207-4ECF-8417-E9B4E0AC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71D-A788-497C-8741-ED680E87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3DC-62FE-4D95-AAFD-6BE73734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956-476E-490C-B317-5F70E413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F17-F786-4501-947E-A70FF26D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A11-4AA3-42B4-969C-26E0A6D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F31-19B0-4D74-9E3F-2921A849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B2C-A17E-4F8E-8975-E5036468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2C1-E452-41DD-94F5-2E7D131C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364-F4AB-4C85-8901-8F49994B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9A4-6719-4BBC-8A88-022AE904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F5A-5741-4AEA-9326-92CAC1B8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3585-F032-4030-8E79-694E0A002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1.gif"/><Relationship Id="rId16" Type="http://schemas.openxmlformats.org/officeDocument/2006/relationships/image" Target="../media/image12.gif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79640" y="5589720"/>
            <a:ext cx="4943520" cy="933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18584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952200" cy="113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908000" y="260280"/>
            <a:ext cx="5372280" cy="9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958160" y="0"/>
            <a:ext cx="1185840" cy="147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956720" y="1916280"/>
            <a:ext cx="952200" cy="113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24000" y="5445000"/>
            <a:ext cx="95220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956720" y="5373720"/>
            <a:ext cx="952200" cy="113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1547640" y="5157720"/>
            <a:ext cx="1186200" cy="14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24000" y="3500280"/>
            <a:ext cx="1185840" cy="1476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958160" y="3357720"/>
            <a:ext cx="1185840" cy="14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6588000" y="5157720"/>
            <a:ext cx="1185840" cy="147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4140360" y="5157720"/>
            <a:ext cx="118584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2843280" y="551664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5364000" y="5516640"/>
            <a:ext cx="952560" cy="113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84360" y="1842120"/>
            <a:ext cx="4535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Když vzduchem zakrouží pár vloček sněhu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astavím tvář, ten dotek má něhu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Vyloudí úsměv, otupí zlost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651640" y="5516640"/>
            <a:ext cx="714240" cy="1085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050920" y="333360"/>
            <a:ext cx="5042160" cy="1095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692360" y="566100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659640" y="566100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7740720" y="177336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059280" y="5516640"/>
            <a:ext cx="714240" cy="1085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7956720" y="2781360"/>
            <a:ext cx="714240" cy="1085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539640" y="2924280"/>
            <a:ext cx="714600" cy="1085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211640" y="5661000"/>
            <a:ext cx="1171440" cy="828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7740720" y="4149720"/>
            <a:ext cx="1171440" cy="82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324000" y="4221000"/>
            <a:ext cx="1171440" cy="828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7812000" y="5589720"/>
            <a:ext cx="1009800" cy="80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324000" y="5589720"/>
            <a:ext cx="1009440" cy="807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5"/>
          <a:stretch/>
        </p:blipFill>
        <p:spPr>
          <a:xfrm>
            <a:off x="468360" y="189000"/>
            <a:ext cx="1166760" cy="1552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6"/>
          <a:stretch/>
        </p:blipFill>
        <p:spPr>
          <a:xfrm>
            <a:off x="7596360" y="189000"/>
            <a:ext cx="1077840" cy="1434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32000" y="199044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ak přeji všem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idem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 ať štěstí je dos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Šťastné a veselé Vánoce Vám všem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5800" y="38815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pře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2:09:33Z</dcterms:created>
  <dc:creator>Eva</dc:creator>
  <dc:description/>
  <dc:language>en-US</dc:language>
  <cp:lastModifiedBy>Eva</cp:lastModifiedBy>
  <dcterms:modified xsi:type="dcterms:W3CDTF">2006-11-30T20:15:29Z</dcterms:modified>
  <cp:revision>4</cp:revision>
  <dc:subject/>
  <dc:title>Snímek 1</dc:title>
</cp:coreProperties>
</file>