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9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2.gif" ContentType="image/gif"/>
  <Override PartName="/ppt/media/image5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2A3-98D4-4ADD-B7F6-A6905016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143-3421-43C0-BFE7-D0F034DC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3CA-8FC0-4E8C-B1D4-3FDAD443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FEB-0AE9-4D98-BE85-FBBF5B2B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6D4-B90F-47BF-B82C-5F1F07F7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B7E-18B9-4ED1-AD61-4F138867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B68-12E0-47E3-82AD-C1AC7EE3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925-8A37-4F4F-AEE9-C1B461F3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776-0B28-4427-ABF3-BD11602C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CE3-2D4B-43CE-B2E6-8D4151B2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AB0-A5E4-4982-9E0E-5427DD64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E30-A353-4ACD-B3B2-9692788E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B030-2A30-465C-95A2-04E03B00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10.gif"/><Relationship Id="rId18" Type="http://schemas.openxmlformats.org/officeDocument/2006/relationships/image" Target="../media/image10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5.gif"/><Relationship Id="rId22" Type="http://schemas.openxmlformats.org/officeDocument/2006/relationships/image" Target="../media/image6.gif"/><Relationship Id="rId23" Type="http://schemas.openxmlformats.org/officeDocument/2006/relationships/image" Target="../media/image7.gif"/><Relationship Id="rId24" Type="http://schemas.openxmlformats.org/officeDocument/2006/relationships/image" Target="../media/image9.gif"/><Relationship Id="rId25" Type="http://schemas.openxmlformats.org/officeDocument/2006/relationships/image" Target="../media/image10.gif"/><Relationship Id="rId26" Type="http://schemas.openxmlformats.org/officeDocument/2006/relationships/image" Target="../media/image8.gif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5805360"/>
            <a:ext cx="6429240" cy="82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52560" cy="309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91440" y="0"/>
            <a:ext cx="2752560" cy="309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141720"/>
            <a:ext cx="665280" cy="836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608040" cy="76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609840" cy="76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79280" y="5805360"/>
            <a:ext cx="550800" cy="69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547640" y="5734080"/>
            <a:ext cx="60984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826920" y="5734080"/>
            <a:ext cx="608040" cy="76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411280" y="5805360"/>
            <a:ext cx="66528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8478720" y="2997360"/>
            <a:ext cx="665280" cy="83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132000" y="5877000"/>
            <a:ext cx="608040" cy="76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8535960" y="3933720"/>
            <a:ext cx="608040" cy="76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851280" y="587700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8534520" y="486900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4427640" y="5950080"/>
            <a:ext cx="550800" cy="69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8593200" y="5805360"/>
            <a:ext cx="550800" cy="69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3492360" y="260280"/>
            <a:ext cx="608040" cy="765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885080" y="5734080"/>
            <a:ext cx="608040" cy="76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9"/>
          <a:stretch/>
        </p:blipFill>
        <p:spPr>
          <a:xfrm>
            <a:off x="2843280" y="26028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7236000" y="580536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1"/>
          <a:stretch/>
        </p:blipFill>
        <p:spPr>
          <a:xfrm>
            <a:off x="6516720" y="5805360"/>
            <a:ext cx="665280" cy="83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2"/>
          <a:stretch/>
        </p:blipFill>
        <p:spPr>
          <a:xfrm>
            <a:off x="5796000" y="5877000"/>
            <a:ext cx="60804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3"/>
          <a:stretch/>
        </p:blipFill>
        <p:spPr>
          <a:xfrm>
            <a:off x="5076720" y="5877000"/>
            <a:ext cx="609840" cy="7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4"/>
          <a:stretch/>
        </p:blipFill>
        <p:spPr>
          <a:xfrm>
            <a:off x="5651640" y="189000"/>
            <a:ext cx="609480" cy="766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5"/>
          <a:stretch/>
        </p:blipFill>
        <p:spPr>
          <a:xfrm>
            <a:off x="4932360" y="260280"/>
            <a:ext cx="608040" cy="765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6"/>
          <a:stretch/>
        </p:blipFill>
        <p:spPr>
          <a:xfrm>
            <a:off x="4140360" y="260280"/>
            <a:ext cx="799920" cy="100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5440" y="2133000"/>
            <a:ext cx="519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ak zase po roc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   máme tu Vánoce,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   vánoční nálada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   všechny nás ovlád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1143000" cy="1685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627280" y="189000"/>
            <a:ext cx="380988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020000" y="33336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524720" y="2349360"/>
            <a:ext cx="1143000" cy="1686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79280" y="4797360"/>
            <a:ext cx="1619280" cy="16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236000" y="4797360"/>
            <a:ext cx="1618920" cy="16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556000" y="5229360"/>
            <a:ext cx="3809880" cy="137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1941480"/>
            <a:ext cx="54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ci Ti jen za sebe poslat pár řádků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říjemné prožití vánočních svátků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kroví s vanilkou, šupinku pro štěstí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spoustu světýlek na vašem náměstí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257120" cy="127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64000" y="26028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724360" y="260280"/>
            <a:ext cx="1257480" cy="131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24000" y="260280"/>
            <a:ext cx="1257480" cy="131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524720" y="260280"/>
            <a:ext cx="1257480" cy="1276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272360" y="1773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0" y="1773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667640" y="3573360"/>
            <a:ext cx="1257120" cy="131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324000" y="3357720"/>
            <a:ext cx="1257120" cy="131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0"/>
          <a:stretch/>
        </p:blipFill>
        <p:spPr>
          <a:xfrm>
            <a:off x="7667640" y="5300640"/>
            <a:ext cx="1257120" cy="1276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324000" y="5229360"/>
            <a:ext cx="1257120" cy="127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5508720" y="5229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763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3924360" y="5300640"/>
            <a:ext cx="1257120" cy="1314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83640" y="249156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dně dárků na Vánoce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ť se daří v novém ro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33640" y="3924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ř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1:01:48Z</dcterms:created>
  <dc:creator>Eva</dc:creator>
  <dc:description/>
  <dc:language>en-US</dc:language>
  <cp:lastModifiedBy>Eva</cp:lastModifiedBy>
  <dcterms:modified xsi:type="dcterms:W3CDTF">2006-11-30T20:10:32Z</dcterms:modified>
  <cp:revision>3</cp:revision>
  <dc:subject/>
  <dc:title>Snímek 1</dc:title>
</cp:coreProperties>
</file>