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2.gif" ContentType="image/gif"/>
  <Override PartName="/ppt/media/image5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E18-B446-4EA4-AA62-5B9485C5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B75-71A9-482D-8F72-43BAF11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9BA-786B-4055-9076-2E00CB04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83D-DF94-48AE-9D88-08E1621B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4A0-BDF3-4598-800E-2880548E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F55-F547-431B-A4C5-718311FE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FD1-FF1D-42D7-B2B2-9267392C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FD6-6F0A-4690-83D4-126692C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525-2EBF-4C67-94B7-9F89AD65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63C-9548-4989-BFEA-21F113F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202-D317-46C9-98CB-71E58CC1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BAF-4238-412D-9862-C80BADA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E7F1-EB25-4362-9A63-AD293BCB6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5.gif"/><Relationship Id="rId22" Type="http://schemas.openxmlformats.org/officeDocument/2006/relationships/image" Target="../media/image6.gif"/><Relationship Id="rId23" Type="http://schemas.openxmlformats.org/officeDocument/2006/relationships/image" Target="../media/image7.gif"/><Relationship Id="rId24" Type="http://schemas.openxmlformats.org/officeDocument/2006/relationships/image" Target="../media/image9.gif"/><Relationship Id="rId25" Type="http://schemas.openxmlformats.org/officeDocument/2006/relationships/image" Target="../media/image10.gif"/><Relationship Id="rId26" Type="http://schemas.openxmlformats.org/officeDocument/2006/relationships/image" Target="../media/image8.gif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5805360"/>
            <a:ext cx="6429240" cy="82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52560" cy="30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91440" y="0"/>
            <a:ext cx="275256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665280" cy="83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609840" cy="76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79280" y="5805360"/>
            <a:ext cx="550800" cy="69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547640" y="5734080"/>
            <a:ext cx="60984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826920" y="573408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411280" y="5805360"/>
            <a:ext cx="66528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478720" y="2997360"/>
            <a:ext cx="665280" cy="83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132000" y="587700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8535960" y="393372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851280" y="587700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534520" y="486900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4427640" y="5950080"/>
            <a:ext cx="550800" cy="69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593200" y="5805360"/>
            <a:ext cx="550800" cy="69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3492360" y="26028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885080" y="573408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2843280" y="26028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7236000" y="580536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1"/>
          <a:stretch/>
        </p:blipFill>
        <p:spPr>
          <a:xfrm>
            <a:off x="6516720" y="5805360"/>
            <a:ext cx="665280" cy="83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2"/>
          <a:stretch/>
        </p:blipFill>
        <p:spPr>
          <a:xfrm>
            <a:off x="5796000" y="587700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3"/>
          <a:stretch/>
        </p:blipFill>
        <p:spPr>
          <a:xfrm>
            <a:off x="5076720" y="5877000"/>
            <a:ext cx="609840" cy="7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4"/>
          <a:stretch/>
        </p:blipFill>
        <p:spPr>
          <a:xfrm>
            <a:off x="5651640" y="18900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5"/>
          <a:stretch/>
        </p:blipFill>
        <p:spPr>
          <a:xfrm>
            <a:off x="4932360" y="26028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6"/>
          <a:stretch/>
        </p:blipFill>
        <p:spPr>
          <a:xfrm>
            <a:off x="4140360" y="260280"/>
            <a:ext cx="799920" cy="100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5440" y="2133000"/>
            <a:ext cx="519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ak zase po roc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   máme tu Vánoce,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   vánoční nálad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   všechny nás ovlád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143000" cy="1685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627280" y="189000"/>
            <a:ext cx="380988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020000" y="33336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524720" y="2349360"/>
            <a:ext cx="1143000" cy="1686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79280" y="4797360"/>
            <a:ext cx="1619280" cy="16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236000" y="4797360"/>
            <a:ext cx="1618920" cy="16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556000" y="5229360"/>
            <a:ext cx="380988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1941480"/>
            <a:ext cx="54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ci Ti jen za sebe poslat pár řádků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říjemné prožití vánočních svátků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kroví s vanilkou, šupinku pro štěstí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spoustu světýlek na vašem náměstí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57120" cy="127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64000" y="2602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724360" y="260280"/>
            <a:ext cx="1257480" cy="131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24000" y="260280"/>
            <a:ext cx="1257480" cy="131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524720" y="260280"/>
            <a:ext cx="1257480" cy="1276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272360" y="1773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0" y="1773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667640" y="3573360"/>
            <a:ext cx="1257120" cy="13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324000" y="3357720"/>
            <a:ext cx="1257120" cy="131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7667640" y="530064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324000" y="522936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5508720" y="5229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763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3924360" y="5300640"/>
            <a:ext cx="1257120" cy="131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83640" y="249156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dně dárků na Vánoce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ť se daří v novém ro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33640" y="3924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ř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01:48Z</dcterms:created>
  <dc:creator>Eva</dc:creator>
  <dc:description/>
  <dc:language>en-US</dc:language>
  <cp:lastModifiedBy>Eva</cp:lastModifiedBy>
  <dcterms:modified xsi:type="dcterms:W3CDTF">2006-11-30T20:10:32Z</dcterms:modified>
  <cp:revision>3</cp:revision>
  <dc:subject/>
  <dc:title>Snímek 1</dc:title>
</cp:coreProperties>
</file>