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7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8CD-D5AB-4845-A012-92C6EC48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BA4-E923-406A-A409-28253FEC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F16-C1EE-4C6C-B266-07B15A38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71F-296A-4438-AFCF-1F1B9849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774-AB58-45E9-A0F7-4FA312BE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39D-5DEB-430F-AEB9-507FC80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DFD-0D29-44AC-ABE0-E14E5C3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767-16EA-4358-9EDB-131298ED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91F-2AD2-47BA-9F7B-BBE1D69D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A21-E8EC-4003-8705-88B5F0F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C7F-CBE7-437A-96DB-6B01D04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E8E-B40D-4C93-9AFC-4C78B08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67A9-EF7B-4080-9EB5-274222E9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6.gif"/><Relationship Id="rId24" Type="http://schemas.openxmlformats.org/officeDocument/2006/relationships/image" Target="../media/image7.gif"/><Relationship Id="rId25" Type="http://schemas.openxmlformats.org/officeDocument/2006/relationships/image" Target="../media/image8.gif"/><Relationship Id="rId26" Type="http://schemas.openxmlformats.org/officeDocument/2006/relationships/image" Target="../media/image9.gif"/><Relationship Id="rId27" Type="http://schemas.openxmlformats.org/officeDocument/2006/relationships/image" Target="../media/image10.gif"/><Relationship Id="rId28" Type="http://schemas.openxmlformats.org/officeDocument/2006/relationships/image" Target="../media/image11.gif"/><Relationship Id="rId29" Type="http://schemas.openxmlformats.org/officeDocument/2006/relationships/image" Target="../media/image12.gif"/><Relationship Id="rId30" Type="http://schemas.openxmlformats.org/officeDocument/2006/relationships/image" Target="../media/image13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13.gif"/><Relationship Id="rId34" Type="http://schemas.openxmlformats.org/officeDocument/2006/relationships/image" Target="../media/image8.gif"/><Relationship Id="rId3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3238560"/>
            <a:ext cx="323820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240" cy="90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028000" y="4653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292720" y="189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87640" y="189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24000" y="4581360"/>
            <a:ext cx="84924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2421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667640" y="5661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372360" y="189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1476360" y="189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79280" y="2349360"/>
            <a:ext cx="1189080" cy="91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885080" y="18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372360" y="5589720"/>
            <a:ext cx="1069920" cy="104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7885080" y="342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140360" y="18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1763640" y="5589720"/>
            <a:ext cx="1069920" cy="104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24000" y="18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1619280" y="378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6227640" y="3716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3203640" y="2205000"/>
            <a:ext cx="623880" cy="7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5435640" y="2205000"/>
            <a:ext cx="695160" cy="7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3132000" y="1413000"/>
            <a:ext cx="695520" cy="71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5364000" y="1413000"/>
            <a:ext cx="6969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3924360" y="2205000"/>
            <a:ext cx="69516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4716360" y="2205000"/>
            <a:ext cx="695520" cy="71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3851280" y="141300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2411280" y="1413000"/>
            <a:ext cx="695520" cy="71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4572000" y="1413000"/>
            <a:ext cx="695160" cy="71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6084720" y="1413000"/>
            <a:ext cx="695520" cy="71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2484360" y="2205000"/>
            <a:ext cx="695520" cy="7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6084720" y="2205000"/>
            <a:ext cx="695520" cy="719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1280" y="1483200"/>
            <a:ext cx="48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Přiletěl k nám Ježíšek,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měl politej kožíšek.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Místo dárků odpadky,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chce zůstat i na svátky...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Nalitej jak mraky,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pošlu ti ho taky!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19640" y="5200560"/>
            <a:ext cx="2857320" cy="165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6920" cy="153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7280" cy="1533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2266920" cy="1533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877080" y="0"/>
            <a:ext cx="2266920" cy="153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39640" y="227664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11280" y="414972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885080" y="4005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740720" y="213372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80000" y="4427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Veselé vánoce p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755640" y="249228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1209600" cy="16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2099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92360" y="4869000"/>
            <a:ext cx="790560" cy="1199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9:46:39Z</dcterms:created>
  <dc:creator>Eva</dc:creator>
  <dc:description/>
  <dc:language>en-US</dc:language>
  <cp:lastModifiedBy>Ala</cp:lastModifiedBy>
  <dcterms:modified xsi:type="dcterms:W3CDTF">2006-12-08T20:00:31Z</dcterms:modified>
  <cp:revision>5</cp:revision>
  <dc:subject/>
  <dc:title>Snímek 1</dc:title>
</cp:coreProperties>
</file>