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7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B23-820C-4919-940A-905FF37E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2EE-6EA3-4EC3-83C8-FDD0E19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5DF-D3E3-4B74-858D-6ABD8310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C1A-7714-4DF4-9497-89BD7184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01B-0459-458F-885E-0C6EC20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B92-8B2B-4BD4-9D7E-2A2B140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108-5302-4573-856D-947D062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420-C538-47A1-BFA7-39A6DC4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47A-FDD1-43D3-B842-0D3536E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F78-22B6-4756-B60D-E83B54E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C4B-7249-4C8B-9B3C-E188EB29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6BB-1B31-465F-B518-5FB89704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E65-A441-4C6B-BF9D-6CE205D2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6.gif"/><Relationship Id="rId24" Type="http://schemas.openxmlformats.org/officeDocument/2006/relationships/image" Target="../media/image7.gif"/><Relationship Id="rId25" Type="http://schemas.openxmlformats.org/officeDocument/2006/relationships/image" Target="../media/image8.gif"/><Relationship Id="rId26" Type="http://schemas.openxmlformats.org/officeDocument/2006/relationships/image" Target="../media/image9.gif"/><Relationship Id="rId27" Type="http://schemas.openxmlformats.org/officeDocument/2006/relationships/image" Target="../media/image10.gif"/><Relationship Id="rId28" Type="http://schemas.openxmlformats.org/officeDocument/2006/relationships/image" Target="../media/image11.gif"/><Relationship Id="rId29" Type="http://schemas.openxmlformats.org/officeDocument/2006/relationships/image" Target="../media/image12.gif"/><Relationship Id="rId30" Type="http://schemas.openxmlformats.org/officeDocument/2006/relationships/image" Target="../media/image13.gif"/><Relationship Id="rId31" Type="http://schemas.openxmlformats.org/officeDocument/2006/relationships/image" Target="../media/image8.gif"/><Relationship Id="rId32" Type="http://schemas.openxmlformats.org/officeDocument/2006/relationships/image" Target="../media/image8.gif"/><Relationship Id="rId33" Type="http://schemas.openxmlformats.org/officeDocument/2006/relationships/image" Target="../media/image13.gif"/><Relationship Id="rId34" Type="http://schemas.openxmlformats.org/officeDocument/2006/relationships/image" Target="../media/image8.gif"/><Relationship Id="rId3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3238560"/>
            <a:ext cx="323820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240" cy="90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566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028000" y="4653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92720" y="189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987640" y="189000"/>
            <a:ext cx="849240" cy="90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24000" y="4581360"/>
            <a:ext cx="84924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242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667640" y="5661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372360" y="189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1476360" y="189000"/>
            <a:ext cx="1189080" cy="911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79280" y="2349360"/>
            <a:ext cx="1189080" cy="91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88508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372360" y="5589720"/>
            <a:ext cx="1069920" cy="104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7885080" y="342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14036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763640" y="5589720"/>
            <a:ext cx="1069920" cy="104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24000" y="189000"/>
            <a:ext cx="1069920" cy="104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1619280" y="378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6227640" y="371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3203640" y="2205000"/>
            <a:ext cx="62388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5435640" y="2205000"/>
            <a:ext cx="695160" cy="7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313200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5364000" y="1413000"/>
            <a:ext cx="6969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3924360" y="2205000"/>
            <a:ext cx="69516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4716360" y="2205000"/>
            <a:ext cx="695520" cy="71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3851280" y="1413000"/>
            <a:ext cx="69516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241128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4572000" y="1413000"/>
            <a:ext cx="695160" cy="71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6084720" y="1413000"/>
            <a:ext cx="695520" cy="71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2484360" y="2205000"/>
            <a:ext cx="69552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6084720" y="2205000"/>
            <a:ext cx="695520" cy="719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11280" y="1483200"/>
            <a:ext cx="48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řiletěl k nám Ježíšek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měl politej kožíšek.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Místo dárků odpadky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chce zůstat i na svátky...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Nalitej jak mraky,</a:t>
            </a:r>
            <a:br>
              <a:rPr sz="3200"/>
            </a:br>
            <a:r>
              <a:rPr b="0" lang="cs-CZ" sz="3200" spc="-1" strike="noStrike">
                <a:solidFill>
                  <a:srgbClr val="009900"/>
                </a:solidFill>
                <a:latin typeface="Arial"/>
              </a:rPr>
              <a:t>pošlu ti ho taky!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19640" y="5200560"/>
            <a:ext cx="2857320" cy="165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7280" cy="1533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877080" y="0"/>
            <a:ext cx="2266920" cy="153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39640" y="227664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11280" y="414972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885080" y="400536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740720" y="213372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4427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Veselé vánoce p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755640" y="249228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1209600" cy="16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2099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92360" y="4869000"/>
            <a:ext cx="790560" cy="1199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9:46:39Z</dcterms:created>
  <dc:creator>Eva</dc:creator>
  <dc:description/>
  <dc:language>en-US</dc:language>
  <cp:lastModifiedBy>Ala</cp:lastModifiedBy>
  <dcterms:modified xsi:type="dcterms:W3CDTF">2006-12-08T20:00:31Z</dcterms:modified>
  <cp:revision>5</cp:revision>
  <dc:subject/>
  <dc:title>Snímek 1</dc:title>
</cp:coreProperties>
</file>