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4.png" ContentType="image/png"/>
  <Override PartName="/ppt/media/image1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png" ContentType="image/png"/>
  <Override PartName="/ppt/media/image14.gif" ContentType="image/gif"/>
  <Override PartName="/ppt/media/image10.png" ContentType="image/png"/>
  <Override PartName="/ppt/media/image5.png" ContentType="image/png"/>
  <Override PartName="/ppt/media/image2.gif" ContentType="image/gif"/>
  <Override PartName="/ppt/media/image11.png" ContentType="image/png"/>
  <Override PartName="/ppt/media/image6.png" ContentType="image/png"/>
  <Override PartName="/ppt/media/image3.gif" ContentType="image/gif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0F91-4A21-4885-A024-23EFFC84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B238-6889-4B33-8E96-43337A6E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4CA3-1EE6-4D8E-A0DB-68A8071A6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6045-3A63-4EC9-BA8E-D944B889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C663-2458-462B-8860-8E6F4871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74DD-349D-499E-8F17-84DE9FC0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B57E-4DC8-44B6-AC30-7D334AE4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7D08-E873-4632-A9EA-56D7A0EE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FAD0-AA3B-4A4B-931D-373A25DF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69BF-4C76-4A4D-BEFB-E5A757E8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4C05-74ED-4F32-BCF0-711B6643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3DD6-5F4C-4295-BC37-424EAEC8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3EEB-F59E-4A60-8137-2C023BEE9C2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8.png"/><Relationship Id="rId17" Type="http://schemas.openxmlformats.org/officeDocument/2006/relationships/image" Target="../media/image11.png"/><Relationship Id="rId1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712000" cy="6669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248000" cy="6264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140360" y="260280"/>
            <a:ext cx="4572000" cy="476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140360" y="6165720"/>
            <a:ext cx="4572000" cy="476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211640" y="4797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6084720" y="4797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5435640" y="4437000"/>
            <a:ext cx="952560" cy="1295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7236000" y="8366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5940360" y="3068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7524720" y="4797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4500720" y="8366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5148360" y="3068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5435640" y="836640"/>
            <a:ext cx="857160" cy="952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3"/>
          <a:stretch/>
        </p:blipFill>
        <p:spPr>
          <a:xfrm>
            <a:off x="6227640" y="836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4"/>
          <a:stretch/>
        </p:blipFill>
        <p:spPr>
          <a:xfrm>
            <a:off x="5940360" y="206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5"/>
          <a:stretch/>
        </p:blipFill>
        <p:spPr>
          <a:xfrm>
            <a:off x="6659640" y="3068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6"/>
          <a:stretch/>
        </p:blipFill>
        <p:spPr>
          <a:xfrm>
            <a:off x="4859280" y="4797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7"/>
          <a:stretch/>
        </p:blipFill>
        <p:spPr>
          <a:xfrm>
            <a:off x="6804000" y="479736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345560" y="1987560"/>
            <a:ext cx="4801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Všechno nejlepší k Tvému svátku,</a:t>
            </a:r>
            <a:br>
              <a:rPr sz="2000"/>
            </a:b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hodně radostných chvil na památku,</a:t>
            </a:r>
            <a:br>
              <a:rPr sz="2000"/>
            </a:b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mnoho sil a milých úsměvů,</a:t>
            </a:r>
            <a:br>
              <a:rPr sz="2000"/>
            </a:b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ať Ti je pořád do zpěvu,</a:t>
            </a:r>
            <a:br>
              <a:rPr sz="2000"/>
            </a:b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i přeje ze srdíč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27640" y="333360"/>
            <a:ext cx="4465440" cy="100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427640" y="5589720"/>
            <a:ext cx="4465440" cy="1008000"/>
          </a:xfrm>
          <a:prstGeom prst="rect">
            <a:avLst/>
          </a:prstGeom>
          <a:ln w="0">
            <a:noFill/>
          </a:ln>
        </p:spPr>
      </p:pic>
    </p:spTree>
  </p:cSld>
  <p:transition spd="slow" advTm="28000">
    <p:wipe dir="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84360" y="1484280"/>
            <a:ext cx="4175280" cy="5040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28400" cy="3171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24000" y="3429000"/>
            <a:ext cx="428400" cy="3171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8459640" y="333360"/>
            <a:ext cx="428760" cy="3171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8459640" y="3357720"/>
            <a:ext cx="428760" cy="3171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611280" y="0"/>
            <a:ext cx="3171600" cy="428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5508720" y="0"/>
            <a:ext cx="3171600" cy="428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3059280" y="333360"/>
            <a:ext cx="3171600" cy="4287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14:30:20Z</dcterms:created>
  <dc:creator>Eva</dc:creator>
  <dc:description/>
  <dc:language>en-US</dc:language>
  <cp:lastModifiedBy>Eva</cp:lastModifiedBy>
  <dcterms:modified xsi:type="dcterms:W3CDTF">2006-12-08T14:57:37Z</dcterms:modified>
  <cp:revision>2</cp:revision>
  <dc:subject/>
  <dc:title>Snímek 1</dc:title>
</cp:coreProperties>
</file>