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4.png" ContentType="image/png"/>
  <Override PartName="/ppt/media/image1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5.png" ContentType="image/png"/>
  <Override PartName="/ppt/media/image14.gif" ContentType="image/gif"/>
  <Override PartName="/ppt/media/image10.png" ContentType="image/png"/>
  <Override PartName="/ppt/media/image5.png" ContentType="image/png"/>
  <Override PartName="/ppt/media/image2.gif" ContentType="image/gif"/>
  <Override PartName="/ppt/media/image11.png" ContentType="image/png"/>
  <Override PartName="/ppt/media/image6.png" ContentType="image/png"/>
  <Override PartName="/ppt/media/image3.gif" ContentType="image/gif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3F10-BDE9-4BFB-82BE-5AE2E0588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268E-8A74-4E00-9771-F52C0B8CD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4C98-9242-4465-996B-A979D62CC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C1BE-88D6-430C-96E0-B5074DCE0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59DA-D1E9-4ACA-94D9-251D0E972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2B8F-0B5D-4E62-BE10-BA9B96943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E66E-A8A8-4BD3-8B43-7712C88F2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A890-E761-47C0-B316-FECB86344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84FB-3839-472E-AC4A-4D93DDD19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568E-2F6B-4D54-B570-E763BBBE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5157-86A9-483A-9727-1913A4D27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8662-AC3F-4825-AEDD-2BBF6098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EA0B0-0EF3-49F1-AFFB-8D408CD0FCF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8.png"/><Relationship Id="rId17" Type="http://schemas.openxmlformats.org/officeDocument/2006/relationships/image" Target="../media/image11.png"/><Relationship Id="rId18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7.gif"/><Relationship Id="rId5" Type="http://schemas.openxmlformats.org/officeDocument/2006/relationships/image" Target="../media/image17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8.gif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712000" cy="6669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4248000" cy="6264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140360" y="260280"/>
            <a:ext cx="4572000" cy="476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140360" y="6165720"/>
            <a:ext cx="4572000" cy="476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4211640" y="479736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6084720" y="479736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5435640" y="4437000"/>
            <a:ext cx="952560" cy="1295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7236000" y="83664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5940360" y="3068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7524720" y="479736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0"/>
          <a:stretch/>
        </p:blipFill>
        <p:spPr>
          <a:xfrm>
            <a:off x="4500720" y="83664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1"/>
          <a:stretch/>
        </p:blipFill>
        <p:spPr>
          <a:xfrm>
            <a:off x="5148360" y="3068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2"/>
          <a:stretch/>
        </p:blipFill>
        <p:spPr>
          <a:xfrm>
            <a:off x="5435640" y="836640"/>
            <a:ext cx="857160" cy="9525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3"/>
          <a:stretch/>
        </p:blipFill>
        <p:spPr>
          <a:xfrm>
            <a:off x="6227640" y="836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4"/>
          <a:stretch/>
        </p:blipFill>
        <p:spPr>
          <a:xfrm>
            <a:off x="5940360" y="2060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5"/>
          <a:stretch/>
        </p:blipFill>
        <p:spPr>
          <a:xfrm>
            <a:off x="6659640" y="3068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6"/>
          <a:stretch/>
        </p:blipFill>
        <p:spPr>
          <a:xfrm>
            <a:off x="4859280" y="479736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7"/>
          <a:stretch/>
        </p:blipFill>
        <p:spPr>
          <a:xfrm>
            <a:off x="6804000" y="479736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plit dir="out" orient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345560" y="1987560"/>
            <a:ext cx="48013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Všechno nejlepší k Tvému svátku,</a:t>
            </a:r>
            <a:br>
              <a:rPr sz="2000"/>
            </a:b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 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hodně radostných chvil na památku,</a:t>
            </a:r>
            <a:br>
              <a:rPr sz="2000"/>
            </a:b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 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mnoho sil a milých úsměvů,</a:t>
            </a:r>
            <a:br>
              <a:rPr sz="2000"/>
            </a:b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 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ať Ti je pořád do zpěvu,</a:t>
            </a:r>
            <a:br>
              <a:rPr sz="2000"/>
            </a:b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 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Ti přeje ze srdíčk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427640" y="333360"/>
            <a:ext cx="4465440" cy="1008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427640" y="5589720"/>
            <a:ext cx="4465440" cy="1008000"/>
          </a:xfrm>
          <a:prstGeom prst="rect">
            <a:avLst/>
          </a:prstGeom>
          <a:ln w="0">
            <a:noFill/>
          </a:ln>
        </p:spPr>
      </p:pic>
    </p:spTree>
  </p:cSld>
  <p:transition spd="slow" advTm="28000">
    <p:wipe dir="u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484360" y="1484280"/>
            <a:ext cx="4175280" cy="5040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428400" cy="31719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324000" y="3429000"/>
            <a:ext cx="428400" cy="31719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8459640" y="333360"/>
            <a:ext cx="428760" cy="31719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8459640" y="3357720"/>
            <a:ext cx="428760" cy="31716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611280" y="0"/>
            <a:ext cx="3171600" cy="428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5508720" y="0"/>
            <a:ext cx="3171600" cy="4287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8"/>
          <a:stretch/>
        </p:blipFill>
        <p:spPr>
          <a:xfrm>
            <a:off x="3059280" y="333360"/>
            <a:ext cx="3171600" cy="4287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plit dir="out" orient="ver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8T14:30:20Z</dcterms:created>
  <dc:creator>Eva</dc:creator>
  <dc:description/>
  <dc:language>en-US</dc:language>
  <cp:lastModifiedBy>Eva</cp:lastModifiedBy>
  <dcterms:modified xsi:type="dcterms:W3CDTF">2006-12-08T14:57:37Z</dcterms:modified>
  <cp:revision>2</cp:revision>
  <dc:subject/>
  <dc:title>Snímek 1</dc:title>
</cp:coreProperties>
</file>